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6AE8-AA6E-4E55-BB8E-B58AB5C1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F67B-BA49-4D91-B717-20F1463B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F7C-5A12-418E-AA1E-B2B98375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B95B-1A67-40BF-A6A6-2D6A0D4D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CB13-2BD9-426C-9569-B6D303F2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C213-F891-4A3F-ADC6-4FDBE96C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CF4A-AD1B-49C8-8589-A703BEDD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2602-735C-4BD2-80A3-5D91D6B3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5BEB-769B-4ACE-B8FE-B1A55329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ABE1-B71D-4628-95F7-0482046F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AF48-2E1E-44EC-ABBC-97D28A31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272A-1711-484F-B39B-619D0AD2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2E8B-90F5-4ADA-A754-DBFD935F9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533520"/>
            <a:ext cx="8839440" cy="59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Является основным математическим приемом, используемым для расчета оптимального управления при решении задач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которых на управляющие параметры наложены весьма общие ограничения, хотя обычно заранее предопределяется ряд свойст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реш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нцип максимума применяется к общей задаче управления, имеющей ви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                                                    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Arial Unicode MS"/>
              </a:rPr>
              <a:t>(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гд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заданные непрерывно дифференцируемые функ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ru-RU" sz="2200" spc="-1" strike="noStrike" baseline="-30000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фиксированные параметр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иксированн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множест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управлен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т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ектория управл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кусочно-непрерывная функция времен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пуст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компактн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одмножество пространств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ИНЦИП МАКСИМУМА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514600" y="2438280"/>
                <a:ext cx="388620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lim>
                    </m:limLow>
                    <m:r>
                      <m:t xml:space="preserve">J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 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434340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523880" y="3352680"/>
                <a:ext cx="56311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 u, 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∈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44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опустимые управления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480" y="546120"/>
            <a:ext cx="8839080" cy="62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усть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остояние объекта в каждый момент времени характеризуетс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еременным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например, координатами и скоростями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екторное пространств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екторной переменно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=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является фазовым пространством рассматриваемого объек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С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математической точки зрения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ведение (движение) объекта заключается в том, что переменны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меняются с течением времен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едполагается, что движением объекта можно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правля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аждую функцию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=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определенную на некотором отрезк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ремен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принимающую значения в пространств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мы будем называть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правлени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ласт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ь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управлени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ожет быть любым топологическим хаусдорфовым пространство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Н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з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ве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опустимым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управления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надлежащие некото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м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заранее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ыбран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ном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класс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управлен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280"/>
                            </p:stCondLst>
                            <p:childTnLst>
                              <p:par>
                                <p:cTn id="6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8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80"/>
                            </p:stCondLst>
                            <p:childTnLst>
                              <p:par>
                                <p:cTn id="6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8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280" y="1143000"/>
            <a:ext cx="8839440" cy="44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Условие </a:t>
            </a:r>
            <a:r>
              <a:rPr b="0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се управлени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=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принадлежащие классу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должны быть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змеримым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граниченны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правлени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=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зывается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змеримы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если для любого открытого множеств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множество тех значени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для которых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измеримо на отрезке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правление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граниченн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если множество всех точек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меет в пространстве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компактное замыка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049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К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ласс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допустимых управлений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должен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довлетворя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ть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3-м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словия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8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914400"/>
            <a:ext cx="883944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Условие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200" spc="-1" strike="noStrike" baseline="-30000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допустимое управление и если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произвольна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чка пространств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a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'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"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такие числа, чт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'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"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правление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пределяемое формул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акже является допустимым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286000" y="2743200"/>
                <a:ext cx="38098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при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 {</m:t>
                            </m:r>
                            <m:r>
                              <m:t xml:space="preserve">t</m:t>
                            </m:r>
                          </m:e>
                          <m:e/>
                          <m:e>
                            <m:r>
                              <m:t xml:space="preserve">'</m:t>
                            </m:r>
                            <m:r>
                              <m:t xml:space="preserve">≤</m:t>
                            </m:r>
                            <m:r>
                              <m:t xml:space="preserve">t</m:t>
                            </m:r>
                            <m:r>
                              <m:t xml:space="preserve">≤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6240"/>
                            </p:stCondLst>
                            <p:childTnLst>
                              <p:par>
                                <p:cTn id="7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6740"/>
                            </p:stCondLst>
                            <p:childTnLst>
                              <p:par>
                                <p:cTn id="7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914400"/>
            <a:ext cx="8839440" cy="44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Условие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отрезок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ожно разбить точками деления на конечное число частичных отрезков, на каждом из которых управление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опустимо, то это управление допустимо и на всем отрезке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опустимое управление, рассматриваемое на частичном отрезке, также является допустимы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правление, получающееся из допустимого управления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двигом времени (т. е. управление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—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t&lt;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, также является допустимы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6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8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280" y="1066680"/>
            <a:ext cx="8839440" cy="39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К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асс всех измеримых ограниченных управлен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ожество всех кусочно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прерывных управлений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- множеств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управлений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=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каждое из которых непрерывно для всех рассматриваемых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за исключением лишь конечного числа моментов времени, где функци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может терпеть разрывы первого род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К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асс всех кусочно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стоянных управлений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К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асс кусочно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инейных управлен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Примеры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ласс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ов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допустимых управл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3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280" y="457200"/>
            <a:ext cx="8839440" cy="55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дставл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т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обой необходимое условие оптимальности в задачах оптимального управлени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Ч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стны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луч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бщей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дач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птимального управлени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(1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                                  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(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гд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едполагается, что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оменты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иксированы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-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задача с закрепленным времен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ножеств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не зависит от времен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фазовые ограничения отсутствую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инцип максимума Понтрягина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590920" y="1828800"/>
                <a:ext cx="38098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90920" y="2286000"/>
                <a:ext cx="411480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t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590920" y="3505320"/>
                <a:ext cx="41148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ℜ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: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514600" y="4114800"/>
                <a:ext cx="42670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ℜ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: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981080" y="4876920"/>
                <a:ext cx="5335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1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2040"/>
                            </p:stCondLst>
                            <p:childTnLst>
                              <p:par>
                                <p:cTn id="8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540"/>
                            </p:stCondLst>
                            <p:childTnLst>
                              <p:par>
                                <p:cTn id="8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3040"/>
                            </p:stCondLst>
                            <p:childTnLst>
                              <p:par>
                                <p:cTn id="8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5" dur="8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6" dur="8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7" dur="8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2" dur="8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4" dur="8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60"/>
                            </p:stCondLst>
                            <p:childTnLst>
                              <p:par>
                                <p:cTn id="8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660"/>
                            </p:stCondLst>
                            <p:childTnLst>
                              <p:par>
                                <p:cTn id="8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7" dur="80"/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8" dur="80"/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9" dur="80"/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760"/>
                            </p:stCondLst>
                            <p:childTnLst>
                              <p:par>
                                <p:cTn id="8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00"/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260"/>
                            </p:stCondLst>
                            <p:childTnLst>
                              <p:par>
                                <p:cTn id="8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760"/>
                            </p:stCondLst>
                            <p:childTnLst>
                              <p:par>
                                <p:cTn id="8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4" dur="500"/>
                                        <p:tgtEl>
                                          <p:spTgt spid="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304920"/>
            <a:ext cx="883944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оложи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где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 константа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азывается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ункцией Гамильтон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истема линейных дифференциальных уравнени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тносительно переменных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зывается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опряженно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истемой, соответствующей управлению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траектори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более подробной покоординатной записи сопряженная система принимает вид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                                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(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истема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имеет при любых начальных условиях единственное решение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определенное и непрерывное на всем отрезке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7660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9084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0040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580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33640" y="372960"/>
                <a:ext cx="312444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723960" y="1135080"/>
                <a:ext cx="315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705040" y="1135080"/>
                <a:ext cx="23875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629080" y="2735280"/>
                <a:ext cx="12380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ψ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924360" y="3268800"/>
                <a:ext cx="14479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610160" y="2583000"/>
                <a:ext cx="190512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171880" y="4944960"/>
                <a:ext cx="51814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7277040" y="6164280"/>
                <a:ext cx="6098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333440" y="6240600"/>
                <a:ext cx="217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500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00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500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Теорема (принцип максимума Понтрягина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295280"/>
            <a:ext cx="88394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Т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орема выражает необходимые условия оптимальности в задаче (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усть функции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     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        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меют частные производные по переменным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     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непрерывны вместе с этими производными по совокупности аргументов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едположим, чт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решение задачи (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гда существует решение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пряженной системы (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ответствующей управлени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траектори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константа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акие, что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    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   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и выполняются следующие условия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133720" y="1981080"/>
                <a:ext cx="137160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962520" y="1981080"/>
                <a:ext cx="142848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362320" y="2286000"/>
                <a:ext cx="9903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809880" y="2666880"/>
                <a:ext cx="28450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∈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581280" y="3733920"/>
                <a:ext cx="276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828800" y="4343400"/>
                <a:ext cx="774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962520" y="4343400"/>
                <a:ext cx="1206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791320" y="4343400"/>
                <a:ext cx="102384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0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5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6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7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1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5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280" y="76320"/>
            <a:ext cx="8839440" cy="53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1.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У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ловие максимум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я Гамильтона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достигает максимума п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при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 т. е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2.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У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ловие трансверсальности на левом конце траектори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С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ществуют числа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акие, что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3.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У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ловие трансверсальности на правом конце траектори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С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ществуют числа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акие, чт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Центральным в теореме является условие максимум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отказаться от предположения о том, что конечный момент времен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иксирован, т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условие 3 примет вид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3080" y="525600"/>
                <a:ext cx="11556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229280" y="449280"/>
                <a:ext cx="16761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ψ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23960" y="830160"/>
                <a:ext cx="6984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∈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619280" y="1125360"/>
                <a:ext cx="63309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ψ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90920" y="1905120"/>
                <a:ext cx="9651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352680" y="2286000"/>
                <a:ext cx="19814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514600" y="3200400"/>
                <a:ext cx="10666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059280" y="3573360"/>
                <a:ext cx="3468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Φ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14600" y="5410080"/>
                <a:ext cx="45720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828800" y="6019920"/>
                <a:ext cx="60199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2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3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6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7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5" dur="8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6" dur="8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7" dur="8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500"/>
                            </p:stCondLst>
                            <p:childTnLst>
                              <p:par>
                                <p:cTn id="10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4" dur="80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5" dur="80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6" dur="80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1" dur="80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3" dur="80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3640"/>
                            </p:stCondLst>
                            <p:childTnLst>
                              <p:par>
                                <p:cTn id="1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4140"/>
                            </p:stCondLst>
                            <p:childTnLst>
                              <p:par>
                                <p:cTn id="1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52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имеры задач оптимального управления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1523880"/>
            <a:ext cx="88394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ссматриваетс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летательный аппарат, положение которого описывается следующими параметрам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альность и высота поле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еличина и угол наклона к горизонту вектора скор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оль управлений играют угол атаки и функция, отвечающая возможности изменять в полете геометрию крыльев (т.е. их эффективную площадь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ребуетс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айти такие управляющие функции, которые доставляют максимум дальности поле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аксимизация дальности полета аппарата в атмосфе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9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1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3400"/>
                            </p:stCondLst>
                            <p:childTnLst>
                              <p:par>
                                <p:cTn id="1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5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6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7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4320"/>
                            </p:stCondLst>
                            <p:childTnLst>
                              <p:par>
                                <p:cTn id="1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1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3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8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9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0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5" dur="8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6" dur="8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7" dur="8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лассификация зада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птимального управления динамическими систем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ана система, объект, процес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истема описывается дифференциальным уравнени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вектор фазовых координа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вектор управл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врем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 вектор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ложены ограничения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истема рассматривается на интервал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0, T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ребуется определить вектор–функци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(t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оставляющие минимум функционалу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=J(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ри переводе из начального состояни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), 0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 конечное  состояни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, 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дачи оптимального управления классифицируются по способу задания функционала, по способу задания ограничений вдоль траектории и по способу задания краевых условий.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3352680" y="1905120"/>
                <a:ext cx="16765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228600" y="685800"/>
            <a:ext cx="89154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Ф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рмулировк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задачи оптимального управл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8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3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42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18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6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1295280"/>
            <a:ext cx="88394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ссматриваетс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управляемый ракетный аппарат, состояние которого задается координатами в трехмерном пространстве, вектором скорости и значением масс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правление осуществляется выбором направления и абсолютного значения тяги раке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ребуетс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так управлять ракетой, чтобы в фиксированный момент времени она достигла заданной точки, имея определенную скорость и израсходовав минимум топлива (т.е. имея максимально возможную массу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дача ракетодинамики в однородном пол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задача об оптимальном в смысле расхода топли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вижении ракеты в пустот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0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0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1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7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8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4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5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6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280" y="2133720"/>
            <a:ext cx="883944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стояние ракеты задается значениями высоты, скорости и массы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З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дача состоит в выборе тяги, которая максимизировала бы высоту подъема при свободной продолжительности поле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4572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дача о максимальной высоте подъема вертикально взлетающей в атмосфере ракеты-зо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0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9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0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1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6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7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8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280" y="1066680"/>
            <a:ext cx="883944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 ферме </a:t>
            </a:r>
            <a:r>
              <a:rPr b="0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меетс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тадо ско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жегодно часть стада отправляется на мясозаготовки, причем доход фермы зависит от количества проданного ско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азовой переменной выступает количество скота на ферме в конце каждого года после мясозаготово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правляющим параметром - количество проданного на мясо ско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ребуетс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пределить, каким образом ферма может получить максимальный доход за несколько лет при определенном минимуме ежегодных мясозаготовок и заданном значении поголовья скота на конец планового период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30492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дача об оптимизации мясозаготов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0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1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2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3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7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8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9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4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5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6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3360"/>
                            </p:stCondLst>
                            <p:childTnLst>
                              <p:par>
                                <p:cTn id="1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0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1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2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7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8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9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280" y="609480"/>
            <a:ext cx="8839440" cy="60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которая заданная начальная сумма денег затрачивается на приобретение оборудования двух типов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 помощью этого оборудования организуется производство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спределяя имеющиеся средства между различными типами оборудования, к концу срока эксплуатации получают определенный экономический эффек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тем амортизированное оборудование реализуют, а вырученные средства используют как начальную сумму для следующего цикла, и т.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ребуетс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айти такую стратегию распределения средств для покупки оборудования типов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 каждом цикле, чтобы обеспечить наибольший экономический эффект после фиксированного числа производственно-экономических цикл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птимальное распределение ресур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0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2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3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4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3560"/>
                            </p:stCondLst>
                            <p:childTnLst>
                              <p:par>
                                <p:cTn id="12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8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9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0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5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6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7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2" dur="8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3" dur="8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4" dur="8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9" dur="8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0" dur="8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1" dur="8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50920" y="1828800"/>
            <a:ext cx="8642160" cy="30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остояние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бъекта описывается функцией распределения температуры по длине стержня и во времен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Р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ль управления играет плотность тепловых источник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дача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остоит в отыскании такого управления, для которого распределение температуры как можно быстрее достигает заданного состоян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аспределение температуры в тонком стержне конечной длины с теплоизолированными конц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fill="hold">
                      <p:stCondLst>
                        <p:cond delay="0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4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5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6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1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2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3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8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9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0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2280" y="990720"/>
            <a:ext cx="883944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ля ориентации вытянутых спутников вдоль вертикали часто используется эффект собственной устойчивости, обусловленный слабым градиентом поля тягот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от эффект приводит к колебаниям при отклонении от положения равновесия, которые требуется погасить с наименьшими затратами топлива, если демпфирование производится с помощью ракетного двигател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качестве фазовых переменных берутся угол и скорость отклонения оси спутника относительно текущего радиуса-вектора центра масс на орбит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У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авлением является тяга реактивного двигател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28600"/>
            <a:ext cx="9144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емпфирование колебаний спутника на круговой орбите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0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3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4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5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0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1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2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7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8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9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4" dur="8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5" dur="8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6" dur="8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2280" y="1143000"/>
            <a:ext cx="883944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ссматриваетс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епрерывная модель возрастной структуры популяции, разделенной на две возрастные групп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правление заключается в том, что в обеих группах может происходить "пополнение-изъятие 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Ц</a:t>
            </a:r>
            <a:r>
              <a:rPr b="0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лью управлени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является максимизация дохода от урожая, за вычетом издержек на пополне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азовыми переменными являются численности популяц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пример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модель можно трактовать как процесс эксплуатации некоторого водоема посредством выпуска мальков и отлова взрослых экземпляров рыб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28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дача об оптимальном управлении возрастной структурой популя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0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9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0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1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6" dur="8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7" dur="8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8" dur="8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3160"/>
                            </p:stCondLst>
                            <p:childTnLst>
                              <p:par>
                                <p:cTn id="13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2" dur="8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3" dur="8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4" dur="8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9" dur="8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0" dur="8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1" dur="8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6" dur="8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7" dur="8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8" dur="8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8600" y="990720"/>
            <a:ext cx="876312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остояние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трасли описывается величиной основных производственных фондов, количество которых растет за счет капитальных вложений и уменьшается за счет физического и морального износ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апитальные вложения в отрасль играют роль управлен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К</a:t>
            </a:r>
            <a:r>
              <a:rPr b="0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итерий оптимальност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роцессов одновременно учитывает экономию капиталовложений, с одной стороны, и увеличение основных производственных фондов отрасли - с друг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у задачу можно обобщить на случай нескольких отрасле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гда распределение капитальных вложений нужно осуществить не только во времени, но и между отраслями, которые являются "конкурентами"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76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дача оптимального распределения капитальных вложений в отрасли на заданном интервале план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0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1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2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3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8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9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0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1920"/>
                            </p:stCondLst>
                            <p:childTnLst>
                              <p:par>
                                <p:cTn id="14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4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5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6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1" dur="8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2" dur="8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3" dur="8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960"/>
                            </p:stCondLst>
                            <p:childTnLst>
                              <p:par>
                                <p:cTn id="14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7" dur="8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8" dur="8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9" dur="8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52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пособы задания функционал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209680"/>
            <a:ext cx="883944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где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дифференцируемая функция своих аргумент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отсутствии ограничений на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задача называется задачей Лагранжа и является классической задачей вариационного исчисл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качестве примера можно рассмотреть агрегат, который должен дать максимальное количество продук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этом функция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меет смысл мгновенной производительности, а интеграл – полную выработку продук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484360" y="1484280"/>
                <a:ext cx="42768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,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152280" y="7621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нтегральный функцион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6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457200"/>
            <a:ext cx="8839440" cy="59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инимизируется функциона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ормально задача Майера является более общей, чем задача Лагранжа Любая задача Лагранжа может рассматриваться как частный случай задачи Майе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ействительно, достаточно вве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овую скалярную переменную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+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овый фазовый векто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екто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гда система будет описываться уравнение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 минимизации подлежит функционал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име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-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задача о достижении наибольшей дальности ракет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6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дача Май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81280" y="3581280"/>
                <a:ext cx="17528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657600" y="4267080"/>
                <a:ext cx="13716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867280" y="4724280"/>
                <a:ext cx="190512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105520" y="5425920"/>
                <a:ext cx="1981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76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8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6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60"/>
                            </p:stCondLst>
                            <p:childTnLst>
                              <p:par>
                                <p:cTn id="2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3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236232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З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дача Больца может быть сведена к задаче Майе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28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дача Боль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ункционал смешанного ти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666880" y="1523880"/>
          <a:ext cx="4191120" cy="7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419112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0" y="3149640"/>
            <a:ext cx="914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дача на быстродейств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396252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Arial Unicode MS"/>
                <a:ea typeface="Times New Roman"/>
              </a:rPr>
              <a:t>Этим термином объединяются задачи, в которых функционалом является врем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Т</a:t>
            </a:r>
            <a:r>
              <a:rPr b="0" lang="en-US" sz="2200" spc="-1" strike="noStrike">
                <a:solidFill>
                  <a:srgbClr val="006600"/>
                </a:solidFill>
                <a:latin typeface="Arial Unicode MS"/>
                <a:ea typeface="Times New Roman"/>
              </a:rPr>
              <a:t>ребуется перевести систему из одного состояния в другое за минимальное врем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600"/>
                            </p:stCondLst>
                            <p:childTnLst>
                              <p:par>
                                <p:cTn id="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280" y="1066680"/>
            <a:ext cx="8839440" cy="44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1.</a:t>
            </a:r>
            <a:r>
              <a:rPr b="0" lang="ru-RU" sz="2200" spc="-1" strike="noStrike">
                <a:solidFill>
                  <a:srgbClr val="800000"/>
                </a:solidFill>
                <a:latin typeface="Arial Unicode MS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О</a:t>
            </a:r>
            <a:r>
              <a:rPr b="0" i="1" lang="ru-RU" sz="2200" spc="-1" strike="noStrike">
                <a:solidFill>
                  <a:srgbClr val="800000"/>
                </a:solidFill>
                <a:latin typeface="Arial Unicode MS"/>
                <a:ea typeface="Times New Roman"/>
              </a:rPr>
              <a:t>граничения только на управле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Arial Unicode MS"/>
                <a:ea typeface="Times New Roman"/>
              </a:rPr>
              <a:t>Например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       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ли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Arial Unicode MS"/>
                <a:ea typeface="Times New Roman"/>
              </a:rPr>
              <a:t>При наличии ограничений на управление классические методы оказываются непригодны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2.</a:t>
            </a:r>
            <a:r>
              <a:rPr b="0" lang="ru-RU" sz="2200" spc="-1" strike="noStrike">
                <a:solidFill>
                  <a:srgbClr val="800000"/>
                </a:solidFill>
                <a:latin typeface="Arial Unicode MS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О</a:t>
            </a:r>
            <a:r>
              <a:rPr b="0" i="1" lang="ru-RU" sz="2200" spc="-1" strike="noStrike">
                <a:solidFill>
                  <a:srgbClr val="800000"/>
                </a:solidFill>
                <a:latin typeface="Arial Unicode MS"/>
                <a:ea typeface="Times New Roman"/>
              </a:rPr>
              <a:t>граничения на фазовые переменны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Arial Unicode MS"/>
                <a:ea typeface="Times New Roman"/>
              </a:rPr>
              <a:t>Например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                           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Arial Unicode MS"/>
                <a:ea typeface="Times New Roman"/>
              </a:rPr>
              <a:t>Могут быть ограничения типа равенст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Arial Unicode MS"/>
                <a:ea typeface="Times New Roman"/>
              </a:rPr>
              <a:t>или типа неравенст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049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Способы задания огранич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886200" y="4724280"/>
                <a:ext cx="14479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809880" y="5486400"/>
                <a:ext cx="15242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2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68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5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320"/>
                            </p:stCondLst>
                            <p:childTnLst>
                              <p:par>
                                <p:cTn id="3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72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32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82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40"/>
                            </p:stCondLst>
                            <p:childTnLst>
                              <p:par>
                                <p:cTn id="3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0"/>
            <a:ext cx="8839440" cy="69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3.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С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вместные ограничения на управление и фазовые переменные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ывают случаи, когда ограничение на управление и фазовые координаты не могут быть разделены (в экономике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десь также ограничения типа равенст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+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неравенств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+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4.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И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опериметрическая задача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(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задача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 интегральными ограничениями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скалярные функции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чис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зопериметрическая задача может быть сведена к задаче Лагранжа или Майера увеличением размерности фазового вектора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+ j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, 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 граничными условия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124080" y="1523880"/>
                <a:ext cx="137160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048120" y="2286000"/>
                <a:ext cx="1371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505320" y="3124080"/>
                <a:ext cx="22096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160"/>
                            </p:stCondLst>
                            <p:childTnLst>
                              <p:par>
                                <p:cTn id="4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36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860"/>
                            </p:stCondLst>
                            <p:childTnLst>
                              <p:par>
                                <p:cTn id="4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380"/>
                            </p:stCondLst>
                            <p:childTnLst>
                              <p:par>
                                <p:cTn id="4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86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36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48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98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940"/>
                            </p:stCondLst>
                            <p:childTnLst>
                              <p:par>
                                <p:cTn id="4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120"/>
                            </p:stCondLst>
                            <p:childTnLst>
                              <p:par>
                                <p:cTn id="4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12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7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7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7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96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7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7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7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6360"/>
                            </p:stCondLst>
                            <p:childTnLst>
                              <p:par>
                                <p:cTn id="4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7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7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7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990720"/>
            <a:ext cx="858816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1. З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дача с фиксированными концам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: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дан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Выделяют з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дач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 фиксированным и нефиксированным времен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2. З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дача со свободным концо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: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л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 задан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Выделяют з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дач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 фиксированным и нефиксированным времен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3. З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дача с подвижными концам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: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иксировано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ежат на некоторых гиперповерхностях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)]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200400" y="4419720"/>
                <a:ext cx="152388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ℵ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34624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990720" y="5410080"/>
                <a:ext cx="33526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≤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пособы задания краевых усло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880"/>
                            </p:stCondLst>
                            <p:childTnLst>
                              <p:par>
                                <p:cTn id="5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840"/>
                            </p:stCondLst>
                            <p:childTnLst>
                              <p:par>
                                <p:cTn id="5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120"/>
                            </p:stCondLst>
                            <p:childTnLst>
                              <p:par>
                                <p:cTn id="5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336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3860"/>
                            </p:stCondLst>
                            <p:childTnLst>
                              <p:par>
                                <p:cTn id="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4360"/>
                            </p:stCondLst>
                            <p:childTnLst>
                              <p:par>
                                <p:cTn id="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дачи с дискретным времен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685800"/>
            <a:ext cx="883944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ссматрив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ютс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истемы, описываемые конечно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зностными уравнениям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онал для таких задач будет иметь вид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дача Лагранж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Ф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дача Майе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дача Больц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пример, изопериметрические ограничения записываются в виде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048120" y="2666880"/>
                <a:ext cx="25146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82" name=""/>
          <p:cNvGraphicFramePr/>
          <p:nvPr/>
        </p:nvGraphicFramePr>
        <p:xfrm>
          <a:off x="2590920" y="3962520"/>
          <a:ext cx="312408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962520"/>
                    <a:ext cx="312408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581280" y="5384880"/>
                <a:ext cx="19051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600"/>
                            </p:stCondLst>
                            <p:childTnLst>
                              <p:par>
                                <p:cTn id="5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8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80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28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9:27:02Z</dcterms:created>
  <dc:creator>Vadim</dc:creator>
  <dc:description/>
  <dc:language>en-US</dc:language>
  <cp:lastModifiedBy>Vadim</cp:lastModifiedBy>
  <dcterms:modified xsi:type="dcterms:W3CDTF">2008-03-02T13:04:25Z</dcterms:modified>
  <cp:revision>84</cp:revision>
  <dc:subject/>
  <dc:title>Презентация PowerPoint</dc:title>
</cp:coreProperties>
</file>