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545-9D86-4525-8187-39962887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D77-DB1A-4905-B8DA-7D8ECB39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119-0205-477B-B726-DE6CF388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3166-1E39-4FCD-84D3-0031A668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591-638E-421D-B343-F5481677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7F7-0B27-4817-A172-DCF33BC9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3FB-4E6A-439D-9F2F-63FA00B3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66A-F18F-4474-9577-037DC57F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438-57DB-4FAD-9948-6FBBFB87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0B1-A6FE-441B-A5C5-DDDED1C6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497-5A19-4169-8C46-3A8FB000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9C16-5371-45CD-8865-2C818F13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A164-9ED0-41C0-B952-59A949BBB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меры простейших задач вариационного исчисления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к надо расположить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ит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чтобы охваченный ею участок имел наибольшую площадь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концы нити расположены в заданных точка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0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0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ча сводится к максимизации площад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заданном значении длины нити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заданных краевых значени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комой формой нити служит дуга окруж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077000" cy="182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82000" y="457200"/>
            <a:ext cx="18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дача Ди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248520" y="3809880"/>
                <a:ext cx="11430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257800" y="4494240"/>
                <a:ext cx="14479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'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8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96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457200"/>
            <a:ext cx="883944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странство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, b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й, заданных и непрерывных на конечном интервал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с нормо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а норма отвечает равномерному уклонению функций друг от друг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странство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</a:t>
            </a:r>
            <a:r>
              <a:rPr b="0" lang="ru-RU" sz="22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, b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й, заданных и непрерывных при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месте со своей производной, с норм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налогично вводя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странств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</a:t>
            </a:r>
            <a:r>
              <a:rPr b="0" lang="en-US" sz="22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, b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, 3,.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странство Гильберта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</a:t>
            </a:r>
            <a:r>
              <a:rPr b="0" lang="ru-RU" sz="22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[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, b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]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й, заданных пр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не обязательно непрерывных, для которых норм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 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||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нимает конечное значение. Эт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орма отвечает среднеквадратичному уклонению двух функций друг от друг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581280" y="1219320"/>
                <a:ext cx="20574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lim>
                    </m:limLow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124080" y="3200400"/>
                <a:ext cx="3429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lim>
                    </m:limLow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lim>
                    </m:limLow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648320" y="5029200"/>
                <a:ext cx="13716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Виды ф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нкциональны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пространств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24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740"/>
                            </p:stCondLst>
                            <p:childTnLst>
                              <p:par>
                                <p:cTn id="6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6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10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84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340"/>
                            </p:stCondLst>
                            <p:childTnLst>
                              <p:par>
                                <p:cTn id="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1523880"/>
            <a:ext cx="876312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ть функциона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пр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окальный</a:t>
            </a:r>
            <a:r>
              <a:rPr b="0" i="1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максиму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о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начит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сех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й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е тождественно равны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 достаточно близких к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буд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и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всех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лизких к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смысл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говорят, что на функци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стиг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ильный максиму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онал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и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всех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близких к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смысл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о говорят о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абом максимум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льный экстремум всегда будет также и слабым, но обратное не обязательно.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066680"/>
            <a:ext cx="883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438800" y="1504800"/>
                <a:ext cx="9903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4000" y="2190600"/>
                <a:ext cx="5331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410080" y="2209680"/>
                <a:ext cx="1219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800600" y="2819520"/>
                <a:ext cx="27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5335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Типы э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стремум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ов функционал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895560" y="2190600"/>
                <a:ext cx="5335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14400" y="2895480"/>
                <a:ext cx="1219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43000" y="3886200"/>
                <a:ext cx="1219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27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15040" y="3867120"/>
                <a:ext cx="27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83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ариаци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елинейного функционала равна главной линейной части его приращ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мена приращения на вариацию означает линеаризацию функционала при переходе от одной функци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т которой зависит значение функционал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 другой, близкой фун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функц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x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 которой зависит значени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функционал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сначала совпадала с некоторой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 затем мы перешли к некоторой другой, близкой фун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ариация функционал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048120" y="2971800"/>
                <a:ext cx="4381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362320" y="3276720"/>
                <a:ext cx="11998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52280" y="380988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дес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это вариация функции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х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.е. произвольная фу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ция,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ало уклоняющаяся от нуля и добавл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ма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 исходной функции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л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олучения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вой,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варьированной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219320" y="3886200"/>
                <a:ext cx="5331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439596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390920" y="4857840"/>
                <a:ext cx="4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11480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371600" y="5486400"/>
                <a:ext cx="1295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888160" y="3352680"/>
            <a:ext cx="3122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886200" y="838080"/>
                <a:ext cx="19810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52280" y="533520"/>
            <a:ext cx="88394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П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ме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Ф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1905120"/>
            <a:ext cx="8839440" cy="37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baseline="-30000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переходе от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  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 получит приращ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</a:rPr>
              <a:t>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функция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фиксирована, а функцию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можно выбирать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оизвольн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Т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гд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остоит из двух частей, каждая из которых представляет собой функционал относительн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362320" y="1905120"/>
                <a:ext cx="533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429000" y="1905120"/>
                <a:ext cx="12952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847800" y="2722680"/>
                <a:ext cx="73911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δy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  <m:r>
                      <m:t xml:space="preserve">−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δy</m:t>
                                </m:r>
                                <m:r>
                                  <m:t xml:space="preserve">+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δy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09680" y="3962520"/>
                <a:ext cx="479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248520" y="3962520"/>
                <a:ext cx="533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514680" y="5076720"/>
                <a:ext cx="1295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80"/>
                            </p:stCondLst>
                            <p:childTnLst>
                              <p:par>
                                <p:cTn id="7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720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380880"/>
            <a:ext cx="883944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ервая ча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ладает свойством линейности п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т.е. это линейный функционал, тогда как вторая ча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малых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высший порядок малости. Таким образом,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представляет собой главную линейную часть приращения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функционала при переходе от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ражение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6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и называется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первой) вариацией δI функцион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жно написа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в силу произвольности функции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ы заменили ее обозначение н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733920" y="847800"/>
                <a:ext cx="1676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038480" y="2295360"/>
                <a:ext cx="12956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δy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705200" y="3781440"/>
                <a:ext cx="10670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971800" y="4648320"/>
                <a:ext cx="327672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δ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δ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886200" y="3743280"/>
                <a:ext cx="479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419720" y="5419800"/>
                <a:ext cx="4791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8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980"/>
                            </p:stCondLst>
                            <p:childTnLst>
                              <p:par>
                                <p:cTn id="8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12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380880"/>
            <a:ext cx="8839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З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дан произвольный функциона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{у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реходим от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х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(х)+ δу(х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иращение функцион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ожно представить в виде суммы двух слагаемы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ерво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слагаемо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фиксированной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линейный функционал относительн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у(x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-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ариац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я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функционала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ро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слагаемо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меет относительн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ысший порядок мал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мена приращения функционала на его вариацию означает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инеаризацию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этого функциона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24080" y="2209680"/>
                <a:ext cx="2819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−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48120" y="3200400"/>
                <a:ext cx="32004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733920" y="4495680"/>
                <a:ext cx="1828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280"/>
                            </p:stCondLst>
                            <p:childTnLst>
                              <p:par>
                                <p:cTn id="8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880"/>
                            </p:stCondLst>
                            <p:childTnLst>
                              <p:par>
                                <p:cTn id="9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380"/>
                            </p:stCondLst>
                            <p:childTnLst>
                              <p:par>
                                <p:cTn id="9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8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980"/>
                            </p:stCondLst>
                            <p:childTnLst>
                              <p:par>
                                <p:cTn id="9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480"/>
                            </p:stCondLst>
                            <p:childTnLst>
                              <p:par>
                                <p:cTn id="9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8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8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4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8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80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60948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сс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р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сс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р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(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налогично получаем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895480" y="1066680"/>
                <a:ext cx="32767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743200" y="1828800"/>
                <a:ext cx="34290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7200" y="2514600"/>
                <a:ext cx="81327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δy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члены высшего порядка малости</m:t>
                        </m:r>
                      </m:e>
                    </m:d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743200" y="3048120"/>
                <a:ext cx="34909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δ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nary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y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429000" y="4267080"/>
                <a:ext cx="22860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5486400"/>
                <a:ext cx="4114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δy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δ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84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840"/>
                            </p:stCondLst>
                            <p:childTnLst>
                              <p:par>
                                <p:cTn id="9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7" dur="8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8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760"/>
                            </p:stCondLst>
                            <p:childTnLst>
                              <p:par>
                                <p:cTn id="9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обходимое условие экстремум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457200"/>
            <a:ext cx="8686800" cy="59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усть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которая функция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ализует локальный максимум или минимум функционал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выбранном функциональном пространстве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Ф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нкционал имеет вариаци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Б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дем считать, что рассматривается 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нутренний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не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раничны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кстремум, т.е. функциона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ределен для всех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остаточно близких к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мысле выбранной норм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1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ть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ределенност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меет минимум 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ля некоторо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дставим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7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δy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место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где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каля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лучи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и малы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|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евая част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ложитель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а права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–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меет знак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лученное противоречие доказывает необходимость условия 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657600" y="457200"/>
                <a:ext cx="5335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038480" y="1447920"/>
                <a:ext cx="10670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00200" y="2438280"/>
                <a:ext cx="27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0400" y="3124080"/>
                <a:ext cx="2743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δy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δ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67080" y="3657600"/>
                <a:ext cx="857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28560" y="3968640"/>
                <a:ext cx="990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d>
                      <m:dPr>
                        <m:begChr m:val="{"/>
                        <m:endChr m:val="}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47640" y="5037120"/>
                <a:ext cx="8001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+</m:t>
                        </m:r>
                        <m:r>
                          <m:t xml:space="preserve">kδy</m:t>
                        </m:r>
                      </m:e>
                    </m:d>
                    <m:r>
                      <m:t xml:space="preserve">−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;</m:t>
                        </m:r>
                        <m:r>
                          <m:t xml:space="preserve">kδy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;</m:t>
                        </m:r>
                        <m:r>
                          <m:t xml:space="preserve">kδy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;</m:t>
                        </m:r>
                        <m:r>
                          <m:t xml:space="preserve">δy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  <m:r>
                          <m:t xml:space="preserve">;</m:t>
                        </m:r>
                        <m:r>
                          <m:t xml:space="preserve">kδy</m:t>
                        </m:r>
                      </m:e>
                    </m: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228600"/>
            <a:ext cx="85341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конкретных задачах часто рассматривается экстремум функционала среди функций, удовлетворяющих добавочным линейным неоднородным условиям, наприме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этом случа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еобходимо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лови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экстремум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лжно выполняться для любой вариа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у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удовлетворяющей соответствующим однородным условия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инейные неоднородные условия определяют в пространстве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иперплоскост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ли ставится задача об экстремуме функционала на некотором криволинейном многообразии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остранства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, то, проводя линеаризацию в точке экстремума, получим, что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еобходимо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ловие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экстремум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олжно выполняться для любой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принадлежащей касательной гиперплоскости к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проведенной в точке экстремум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00400" y="1371600"/>
                <a:ext cx="2743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76720" y="3124080"/>
                <a:ext cx="25146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y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360"/>
                            </p:stCondLst>
                            <p:childTnLst>
                              <p:par>
                                <p:cTn id="10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9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0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1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4960"/>
                            </p:stCondLst>
                            <p:childTnLst>
                              <p:par>
                                <p:cTn id="10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762120"/>
            <a:ext cx="8839440" cy="58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 плоскост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даны две точк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асстояние между этими точками определяется по формуле длины дуг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о выражение является функционалом, потому что численная величина его зависит от вида или формы кривых, проходящих через точк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ерез эти же точки можно провести бесчисленное множество кривы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 этого множества нужно найти экстремаль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ую кривую, при которой интеграл (1) имеет миниму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ой кривой будет прямая линия – это совпадает с определением Евклида, который определил прямую как кратчайшее расстояние между двумя точкам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348000" y="1989000"/>
                <a:ext cx="20574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901160" y="152280"/>
            <a:ext cx="524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о кратчайшем расстоян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4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16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66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24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609480"/>
            <a:ext cx="8839440" cy="61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ерез две заданные точк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верхней полуплоскости проходит некоторая кривая, не пересекающая ос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ращ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ющаяся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округ ос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оковая поверхность тела вращения определяется по формуле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ражение (2) является функционалом, потому что численная величина его зависит от вида или формы кривой, проходящей через точк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 всевозможных кривых, соединяющих эти точки, нужно выбрать экстремаль, т.е. такую  кривую, при которой интеграл (2) будет иметь миниму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этом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ой кривой окажется цепная линия, откуда и само название задачи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819520" y="2286000"/>
                <a:ext cx="25905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</m:e>
                            </m:ra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68560" y="152280"/>
            <a:ext cx="306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о катеноид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2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8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8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76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685800"/>
            <a:ext cx="8839440" cy="48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яжелая материальная точк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 масс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катывается под действием силы тяжести из положен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положе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о идеально гладкой крив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уст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корость движения в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начальной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чк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корость движения 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межуточн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точк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огда по закону сохранения энерг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д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ускорение свободного падения, 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Тог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                                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орость есть производная от пути по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724280" y="2514600"/>
                <a:ext cx="19814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2661840" y="152280"/>
            <a:ext cx="374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Задача о брахистохрон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43000" y="4114800"/>
                <a:ext cx="18288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352680" y="4191120"/>
                <a:ext cx="19814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867280" y="4191120"/>
                <a:ext cx="1905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200400" y="5410080"/>
                <a:ext cx="26668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e>
                    </m:ra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76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4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74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4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6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228600"/>
            <a:ext cx="8839440" cy="69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равнивая формулы для скоростей, получи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ку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мя ската из положен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 положени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определится по формул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                      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3)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ражение (3) является функционалом, потому что численная величина его зависит от формы кривой, соединяюще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 множества всех кривых нужно выбрать такую, при которой интеграл (3) имеет наименьшее знач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 этом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ривая кратчайшего времени называется брахистохроно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200400" y="685800"/>
                <a:ext cx="2666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e>
                    </m:ra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447920" y="1219320"/>
                <a:ext cx="22096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rad>
                      </m:den>
                    </m:f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666880" y="3048120"/>
                <a:ext cx="3124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e>
                            </m:rad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8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98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26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24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74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36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ункционал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80880"/>
            <a:ext cx="883944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кон, по которому каждой функции из некоторого класса функций ставится в соответствие определенное число, называется функционалом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риационное исчисление изучает экстремумы функционало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мер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Ф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нкционал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      (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ределен для всех функци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x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заданных пр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принимающих там конечные значе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Д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я функции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лучится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ожно сказать что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– это функция, у которой значениями независимой переменн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ужат обычные функции, а значениями зависимой переменно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лужат чис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267080" y="2133720"/>
                <a:ext cx="19814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867280" y="3581280"/>
                <a:ext cx="182880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6,4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867280" y="4267080"/>
                <a:ext cx="1828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133720" y="4800600"/>
                <a:ext cx="9144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867280" y="4952880"/>
                <a:ext cx="17528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64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2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82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24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6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2280" y="457200"/>
            <a:ext cx="883944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мер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орму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ределяет 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инейный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функциона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const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мер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орму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ределяет еще один функционал, отличный от (4), так как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задан на другом классе функций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x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именно, определенных пр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П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мер</a:t>
            </a:r>
            <a:r>
              <a:rPr b="0" lang="ru-RU" sz="2200" spc="-1" strike="noStrike">
                <a:solidFill>
                  <a:srgbClr val="800000"/>
                </a:solidFill>
                <a:latin typeface="Times New Roman"/>
              </a:rPr>
              <a:t>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                   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ормул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ределяет функционал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впада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ющий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с (4)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895480" y="609480"/>
                <a:ext cx="20574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029200" y="1981080"/>
                <a:ext cx="27432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971800" y="2666880"/>
                <a:ext cx="1523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048120" y="4343400"/>
                <a:ext cx="1447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00400" y="5791320"/>
                <a:ext cx="151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≡</m:t>
                    </m:r>
                    <m:r>
                      <m:t xml:space="preserve">L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2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64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14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30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26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2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4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14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2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4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14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62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3808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ункциональные пространства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1219320"/>
            <a:ext cx="8839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imes New Roman"/>
              </a:rPr>
              <a:t>О</a:t>
            </a:r>
            <a:r>
              <a:rPr b="0" i="1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ласть определения функционала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вокупность функций, для которых он рассматриваетс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П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дставляет собой некоторое линейное пространство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ли его часть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), 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стоящее из функций, над которыми линейные действия выполняются по простейшим правила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акие пространства называются </a:t>
            </a:r>
            <a:r>
              <a:rPr b="0" i="1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ункциональными пространства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Функциональные пространства обычно являются </a:t>
            </a:r>
            <a:r>
              <a:rPr b="0" i="1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ормированны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их имеется понятие </a:t>
            </a:r>
            <a:r>
              <a:rPr b="0" i="1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ормы</a:t>
            </a: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характеризующей уклонение функции от тождественного нул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20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280" y="609480"/>
            <a:ext cx="8839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рма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 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представляет собой конечное действительное число и должна удовлетворять следующим требования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сиомы норм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 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||≥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причем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 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=0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только для тождественно нулевой функци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 |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=|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·||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  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on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≤||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+||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Р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сстояни</a:t>
            </a:r>
            <a:r>
              <a:rPr b="0" i="1" lang="ru-RU" sz="22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жду любыми элементами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нормированном пространств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||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|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48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21:29:48Z</dcterms:created>
  <dc:creator>Zver</dc:creator>
  <dc:description/>
  <dc:language>en-US</dc:language>
  <cp:lastModifiedBy>Zver</cp:lastModifiedBy>
  <dcterms:modified xsi:type="dcterms:W3CDTF">2008-03-02T06:48:47Z</dcterms:modified>
  <cp:revision>97</cp:revision>
  <dc:subject/>
  <dc:title>Презентация PowerPoint</dc:title>
</cp:coreProperties>
</file>