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623B-206A-48B8-B19E-2F3C2848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399E-9A45-4A44-9FB4-C52055A2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044A-E354-40C3-AD62-5BA0789E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97D-8BC0-4423-8FCA-491E4EBE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D6EE-F7D5-4941-902E-9DE4E611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25AD-B8FB-4A7F-9255-7D3AC040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CD3F-8AF7-45BE-9C72-7F879254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E3E9-CCBD-4B81-AC18-372C46D8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15B8-A655-430E-BF4D-3AD3C5F1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FCC-755F-4894-A9AC-F963590E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AABA-97E4-484E-A80F-9C4EB502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7D01-C545-4023-9349-7F82DEE7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E09F-0E80-44B5-BFC4-AEC8D504F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ИНАМИЧЕСКАЯ ОПТИМИЗАЦИЯ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219320"/>
            <a:ext cx="8686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ссмотрим некоторые переменные величины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правляющи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е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параметр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ы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дано некоторое множество функций времен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ножество управ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Необходим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ыб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ать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правляющ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арамет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ы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как функц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ремени, принадлежащ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ножеству управлений. Выбранные функции времени определяют, какой вид имеют функции времени некоторых других переменны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х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описыв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ющи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оведение систем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и переменные называю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азовыми координатам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начения фазовых координат в каждый момент времени выбираются таким образом, чтобы максимизировать (минимизировать) заданный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целевой функционал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зависящий от фазовых координат и управляющих параметр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и времени для управляющих параметров и для фазовых координат связаны с помощью системы дифференциальных уравнени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равнени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й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движ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3280" y="685800"/>
            <a:ext cx="28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З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дач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36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52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Частные случаи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914400"/>
            <a:ext cx="861048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З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дача об оптимальном быстродействи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задача о минимальном времени перехода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Т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ебуетс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а минимальное время перевести фазовую точку из заданного начального положения в заданное конечное полож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Ц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левой функционал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= -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З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дача о брахистохрон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ассическ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имер задачи о минимальном времени переход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720"/>
                            </p:stCondLst>
                            <p:childTnLst>
                              <p:par>
                                <p:cTn id="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8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228600"/>
            <a:ext cx="868680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бот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сервомеханизмов (автоматических следящих устройст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вестны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желательные состояния объект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каждый момент времени определенного промежутка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Т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ебуетс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беспечить, чтобы фактические значения фазового вектора в каждый момент времени были достаточно близкими к желательным состояния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Целевой функцион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функция, измеряющая отрицательный эффект от различия между фактическим и желательным состоянием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дача на минимум энер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Ц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левой функционал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ависит только от управл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114800" y="3200400"/>
                <a:ext cx="22096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ϕ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720"/>
                            </p:stCondLst>
                            <p:childTnLst>
                              <p:par>
                                <p:cTn id="6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220"/>
                            </p:stCondLst>
                            <p:childTnLst>
                              <p:par>
                                <p:cTn id="6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иды управления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533520"/>
            <a:ext cx="868680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У</a:t>
            </a:r>
            <a:r>
              <a:rPr b="0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авление по разомкнутому контур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тимальное управление определяется как функция времен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лностью определяется в начальный момент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а фазовая траектори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тыскивается в результате интегрирования уравнений движения при фиксированных начальных условия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У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авление по замкнутому контуру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(с обратной связью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тимальное управление определяется как функция текущих фазовых координат и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шения можно пересматривать с учетом новой информации, которую несут текущие фазовые координат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дача определения оптимального управления по замкнутому контуру называе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дачей синтез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40"/>
                            </p:stCondLst>
                            <p:childTnLst>
                              <p:par>
                                <p:cTn id="7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880"/>
                            </p:stCondLst>
                            <p:childTnLst>
                              <p:par>
                                <p:cTn id="7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8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4880"/>
                            </p:stCondLst>
                            <p:childTnLst>
                              <p:par>
                                <p:cTn id="7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80"/>
                                        <p:tgtEl>
                                          <p:spTgt spid="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286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а управления как задача программировани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 бесконечномерном пространстве</a:t>
            </a:r>
            <a:r>
              <a:rPr b="0" lang="ru-RU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1143000"/>
            <a:ext cx="8686800" cy="49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ач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прав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              ,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1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иксирован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иксирова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личается от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бщей задачи управлени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ледующи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втономн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тносится к классу задач Лагранж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дача с фиксированным времен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дача содержит только один управляющий параметр и одну фазовую координат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590920" y="1828800"/>
                <a:ext cx="7617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lim>
                    </m:limLow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581280" y="1714680"/>
                <a:ext cx="10670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680"/>
                            </p:stCondLst>
                            <p:childTnLst>
                              <p:par>
                                <p:cTn id="7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180"/>
                            </p:stCondLst>
                            <p:childTnLst>
                              <p:par>
                                <p:cTn id="7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100"/>
                            </p:stCondLst>
                            <p:childTnLst>
                              <p:par>
                                <p:cTn id="7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620"/>
                            </p:stCondLst>
                            <p:childTnLst>
                              <p:par>
                                <p:cTn id="7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4" dur="8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8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8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720"/>
                            </p:stCondLst>
                            <p:childTnLst>
                              <p:par>
                                <p:cTn id="8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280"/>
                            </p:stCondLst>
                            <p:childTnLst>
                              <p:par>
                                <p:cTn id="8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8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3520"/>
                            </p:stCondLst>
                            <p:childTnLst>
                              <p:par>
                                <p:cTn id="8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4720"/>
                            </p:stCondLst>
                            <p:childTnLst>
                              <p:par>
                                <p:cTn id="8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5" dur="8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8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914400"/>
            <a:ext cx="8686800" cy="50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данный промежуток времен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ожно разбить 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нтервалов равной длины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ремя измеряется в дискретных единицах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зменяется от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до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стояния и управления замеряются в дискретные моменты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0" y="1828800"/>
                <a:ext cx="673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880"/>
                            </p:stCondLst>
                            <p:childTnLst>
                              <p:par>
                                <p:cTn id="8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7" dur="8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8" dur="8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9" dur="8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400"/>
                            </p:stCondLst>
                            <p:childTnLst>
                              <p:par>
                                <p:cTn id="8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4" dur="8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5" dur="8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720"/>
                            </p:stCondLst>
                            <p:childTnLst>
                              <p:par>
                                <p:cTn id="8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6" dur="8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8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240"/>
                            </p:stCondLst>
                            <p:childTnLst>
                              <p:par>
                                <p:cTn id="8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2" dur="80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80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457200"/>
            <a:ext cx="8686800" cy="63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ач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ограммирования с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еременной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200" spc="-1" strike="noStrike" baseline="30000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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1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 1, 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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- фиксированный положительный парамет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р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это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разностные уравнения в (13) превращаются в дифференциальные уравнения задачи (1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ачу управления можно считать задачей математического программирования в бесконечномерном пространств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им пространством является множество всех кусочно-непрерывных вещественных функций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определенных на промежутке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971800" y="990720"/>
                <a:ext cx="9144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267080" y="838080"/>
                <a:ext cx="16002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q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q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Δ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038480" y="3200400"/>
                <a:ext cx="557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limLow>
                          <m:e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e>
                          <m:lim>
                            <m:limLow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0</m:t>
                                </m:r>
                              </m:e>
                              <m:lim/>
                            </m:limLow>
                          </m:lim>
                        </m:limLow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2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880"/>
                            </p:stCondLst>
                            <p:childTnLst>
                              <p:par>
                                <p:cTn id="8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380"/>
                            </p:stCondLst>
                            <p:childTnLst>
                              <p:par>
                                <p:cTn id="8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3300"/>
                            </p:stCondLst>
                            <p:childTnLst>
                              <p:par>
                                <p:cTn id="9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3" dur="8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8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4220"/>
                            </p:stCondLst>
                            <p:childTnLst>
                              <p:par>
                                <p:cTn id="9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0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1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8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20"/>
                            </p:stCondLst>
                            <p:childTnLst>
                              <p:par>
                                <p:cTn id="9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20"/>
                            </p:stCondLst>
                            <p:childTnLst>
                              <p:par>
                                <p:cTn id="9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8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7" dur="80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8" dur="80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3" dur="80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5" dur="80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35080" y="228600"/>
            <a:ext cx="8680320" cy="63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еорема Вейерштр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ть допустимое множество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является компактным (т.е. ограниченным и замкнутым) и непустым. Тогда непрерывная целевая функция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определенная на этом множестве, достигает глобального максимума на внутренней или граничной точке множеств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казательств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Т.к.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раз непрерывной функции, определенной на компактном множестве, является компактны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гда мы имеем множество действительных чисел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удовлетворяющих условию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для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оторое является компактны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сякое компактное множество действительных чисел имеет верхнюю грань. Таким образом, есл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является верхней грань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о существует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удовлетворяющий услови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)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а так как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ля всех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о точка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является глобальным максимумо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9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6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3" dur="8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4" dur="8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5" dur="8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960"/>
                            </p:stCondLst>
                            <p:childTnLst>
                              <p:par>
                                <p:cTn id="9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9" dur="8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0" dur="8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1" dur="8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6920"/>
                            </p:stCondLst>
                            <p:childTnLst>
                              <p:par>
                                <p:cTn id="9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6" dur="8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7" dur="8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3" dur="8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4" dur="8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304920"/>
            <a:ext cx="86868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бобщенная теорема Вейерштр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шение общей задачи управления (9) существует, если целевой функционал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является непрерывным функционалом от функций управления и подмножество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бесконечномерного пространства, к которому принадлежат управления, является компактны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Д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казательств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означим символо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точную верхнюю границу функционал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о всем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и все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 Возьмем некоторую последовательность управлени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акую чт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-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ак как множество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компактное, то эта последовательность содержит подпоследовательность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p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сходящуюся к некоторому управлению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}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419720" y="4267080"/>
                <a:ext cx="264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1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2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3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8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9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5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6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7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2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3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4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6400"/>
                            </p:stCondLst>
                            <p:childTnLst>
                              <p:par>
                                <p:cTn id="10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6" dur="8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7" dur="8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8" dur="8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685800"/>
            <a:ext cx="86104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гд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p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едовательн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p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к как функционал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прерывен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p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 оптимальным является управлени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}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ля которог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} = J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898800" y="1257480"/>
                <a:ext cx="414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467160" y="4089240"/>
                <a:ext cx="609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619440" y="5753160"/>
                <a:ext cx="609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5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6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7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40"/>
                            </p:stCondLst>
                            <p:childTnLst>
                              <p:par>
                                <p:cTn id="10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60"/>
                            </p:stCondLst>
                            <p:childTnLst>
                              <p:par>
                                <p:cTn id="10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8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120"/>
                            </p:stCondLst>
                            <p:childTnLst>
                              <p:par>
                                <p:cTn id="10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6" dur="5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80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762120"/>
            <a:ext cx="8686800" cy="57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дача управления в классическом вариационном исчислен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ди множества функций времени – фазовых траектори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соединяющих две фиксированные точки, соответствующие начальному и конечному моментам времени, требуется выбрать функцию, максимизирующую (минимизирующую) некоторый интеграл от заданной функции, которая зависит от фазовой координаты, скорости изменения фазовой координаты и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аким образом,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лассическая задача вариационного исчислени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меет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фиксированная непрерывно дифференцируемая функц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фиксированные параметр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752480" y="4648320"/>
                <a:ext cx="7621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lim>
                    </m:limLow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895480" y="4495680"/>
                <a:ext cx="20574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0" y="152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АРИАЦИОННОЕ ИСЧИСЛЕНИ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0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6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8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3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5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0" dur="8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2" dur="8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520"/>
                            </p:stCondLst>
                            <p:childTnLst>
                              <p:par>
                                <p:cTn id="1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6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020"/>
                            </p:stCondLst>
                            <p:childTnLst>
                              <p:par>
                                <p:cTn id="1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7" dur="8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8" dur="8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3180"/>
                            </p:stCondLst>
                            <p:childTnLst>
                              <p:par>
                                <p:cTn id="1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8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460"/>
                            </p:stCondLst>
                            <p:childTnLst>
                              <p:par>
                                <p:cTn id="1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9" dur="8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0" dur="8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трогая формулировка задач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457200"/>
            <a:ext cx="8839440" cy="66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рем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прерывная величин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заданная на промежутке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чальн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ы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омен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времени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ычно известен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онечн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ы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омен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времени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асто требуется определить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Ф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зовы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е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координат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ы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ещественны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числ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а,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характериз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ющи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стояние системы в любой момент времен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: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Ф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зовы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й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вектор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азов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ая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точк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мерный векто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з фазовых координа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'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Ф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зовая траектория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прерывная вектор-функция времени, значениями которой в каждый данный момент времен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з указанного промежутка являются фазовые векторы (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 = 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е начало 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иксированное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чальное состоя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кончание –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онечное состояние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20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88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44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2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64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20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762120"/>
            <a:ext cx="86104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а задача является частным случаем общей задачи управ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которую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 входит функция конечных параметров (задача Лагранжа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ходит одна фазовая координа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ходит один управляющий параметр – скорость изменения фазовой координа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676520"/>
            <a:ext cx="7848720" cy="2209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676520"/>
            <a:ext cx="7696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й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условии, чт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иксирован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070000" y="2374920"/>
                <a:ext cx="806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lim>
                    </m:limLow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276720" y="2247840"/>
                <a:ext cx="1981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8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9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2120"/>
                            </p:stCondLst>
                            <p:childTnLst>
                              <p:par>
                                <p:cTn id="1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7" dur="8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8" dur="8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8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360"/>
                            </p:stCondLst>
                            <p:childTnLst>
                              <p:par>
                                <p:cTn id="1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3" dur="8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4" dur="8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5" dur="8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2360"/>
                            </p:stCondLst>
                            <p:childTnLst>
                              <p:par>
                                <p:cTn id="1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9" dur="8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0" dur="8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1" dur="8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3480"/>
                            </p:stCondLst>
                            <p:childTnLst>
                              <p:par>
                                <p:cTn id="1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5" dur="8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6" dur="8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7" dur="8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457200"/>
            <a:ext cx="86868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равнение движения в этом случае имеет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аменяет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правляющий параметр может принимать любое знач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авление должно отвечать единственному условию – быть кусочно-непрерывной функцией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юбая траектори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азывае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пустимо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если она удовлетворяет граничным условиям из (1) и следующему условию непрерывност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непрерывна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кусочно-непрерывная функция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4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5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1480"/>
                            </p:stCondLst>
                            <p:childTnLst>
                              <p:par>
                                <p:cTn id="1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0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1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2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680"/>
                            </p:stCondLst>
                            <p:childTnLst>
                              <p:par>
                                <p:cTn id="1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6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7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8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3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5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1880"/>
                            </p:stCondLst>
                            <p:childTnLst>
                              <p:par>
                                <p:cTn id="1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9" dur="8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0" dur="8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8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6" dur="8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7" dur="8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8" dur="8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3" dur="8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4" dur="8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5" dur="8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4680"/>
                            </p:stCondLst>
                            <p:childTnLst>
                              <p:par>
                                <p:cTn id="12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9" dur="8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0" dur="8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1" dur="8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5360"/>
                            </p:stCondLst>
                            <p:childTnLst>
                              <p:par>
                                <p:cTn id="1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5" dur="8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6" dur="8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7" dur="8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52280"/>
            <a:ext cx="883944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У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авляющи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е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параметр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ы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ещественны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чис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ла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характеризую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щи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ыборы (решения), которые нужно осуществлять в каждый данный момент времен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: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У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авляющи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й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вектор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ектор-столбец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 с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ставленный из управляющих параметр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'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правление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"траекторией управления") называется функц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= 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начениями этой функции в каждый данный момент времен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являются управляющие векторы (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авляющ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арамет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ы и 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авление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– 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сочно-непрерывн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ы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92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76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16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152280"/>
            <a:ext cx="883944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авляющий вектор в каждый момент времени из интервал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олжен принадлежать некоторому фиксированному непустому подмножеству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мерного евклидова пространств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ычно множество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является выпуклым и компактным (т.е. замкнутым и ограниченным) и инвариантно относительно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правление (4) называе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пустимы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если оно представляет собой кусочно-непрерывную функцию времени, значения которой в любой момент времени  из указанного интервала принадлежат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ножество управлений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ножество всех допустимых управлений. Управление должно принадлежать указанному множеству управл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азовая траектори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пределяется из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равнений движ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'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ли в развернутом вид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2, 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52280" y="5943600"/>
                <a:ext cx="1600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52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20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92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72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457200"/>
            <a:ext cx="8839440" cy="59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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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прерывно дифференцируе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ые функ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дифференциальные уравнения (5) не зависят явно от времени, то уравнения движения называю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втономным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На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име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линейные автономные уравнения движ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'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фиксированная матрица размерност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фиксированная матрица размерност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заданы начальные значения и управлени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о существует единственная фазовая траектори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удовлетворяющая уравнениям движения и граничным условия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 котора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ищетс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нтегрированием дифференциальных уравнений при данных начальных условиях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40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800"/>
                            </p:stCondLst>
                            <p:childTnLst>
                              <p:par>
                                <p:cTn id="2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160"/>
                            </p:stCondLst>
                            <p:childTnLst>
                              <p:par>
                                <p:cTn id="2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320"/>
                            </p:stCondLst>
                            <p:childTnLst>
                              <p:par>
                                <p:cTn id="2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80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304920"/>
            <a:ext cx="883944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азовая траектория, найденная в результате решения уравнений движения при данном начальном состоянии с использованием допустимого управления, называе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пустимо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а любая фазовая точка на фазовой траектории, которую можно достичь за конечное время, называе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стижим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онечный момент времен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пределяется условие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ри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заданное подмножество в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называемое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онечной поверхность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З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дача с фиксированным времен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нечный момент времен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адан в явной форме как параметр задач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З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дача с закрепленным концо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дан в явной форме как вектор параметров задач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760"/>
                            </p:stCondLst>
                            <p:childTnLst>
                              <p:par>
                                <p:cTn id="3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80"/>
                            </p:stCondLst>
                            <p:childTnLst>
                              <p:par>
                                <p:cTn id="3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16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40"/>
                            </p:stCondLst>
                            <p:childTnLst>
                              <p:par>
                                <p:cTn id="3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228600"/>
            <a:ext cx="8610480" cy="63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З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дач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Боль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Целевой функцион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= J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 =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Ф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нкционал зависит от фазовых координа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правляющих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параметро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и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ремен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торое слагаемое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(6) –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ункци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я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конечных параметро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казывает, что функционал зависит от конечного состояния и от конечного момента времени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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–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иксированны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епрерывно дифференцируемы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581280" y="1143000"/>
                <a:ext cx="20574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720"/>
                            </p:stCondLst>
                            <p:childTnLst>
                              <p:par>
                                <p:cTn id="3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64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200"/>
                            </p:stCondLst>
                            <p:childTnLst>
                              <p:par>
                                <p:cTn id="4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6720"/>
                            </p:stCondLst>
                            <p:childTnLst>
                              <p:par>
                                <p:cTn id="4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68400"/>
            <a:ext cx="8534160" cy="68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З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дач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Лагранж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Ф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нкция конечных параметров тождественно равна нул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Тогд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З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дач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Майер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дынтегральная функция равна нул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Тогд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ачу Больца можно свести к задаче Майера, определив дополнительную фазовую координату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гда выражение (6) принимает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 функционал такого типа является целевым функционалом задачи Май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809880" y="990720"/>
                <a:ext cx="18288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616120" y="4178160"/>
                <a:ext cx="45720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600"/>
                            </p:stCondLst>
                            <p:childTnLst>
                              <p:par>
                                <p:cTn id="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480"/>
                            </p:stCondLst>
                            <p:childTnLst>
                              <p:par>
                                <p:cTn id="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720"/>
                            </p:stCondLst>
                            <p:childTnLst>
                              <p:par>
                                <p:cTn id="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2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8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4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28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200"/>
                            </p:stCondLst>
                            <p:childTnLst>
                              <p:par>
                                <p:cTn id="5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228600"/>
            <a:ext cx="8534160" cy="68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бщая задача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Н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йт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и услови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я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иксирован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при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Геометрическая интерпрет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 множества допустимых фазовых траекторий, начало которых соответствует заданному начальному состояни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начальный момент времен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ребуется выбрать определенную фазовую траекторию, при этом необходимо учитывать, что каждая допустимая фазовая траектория осуществляется при использовании некоторого допустимого управлени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птимальной траекторие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является такая допустимая фазовая траектория, заканчивающаяся на конечной поверхности, на которой достигается максимум целевого функциона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438280" y="914400"/>
                <a:ext cx="7621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lim>
                    </m:limLow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657600" y="838080"/>
                <a:ext cx="1981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4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480"/>
                            </p:stCondLst>
                            <p:childTnLst>
                              <p:par>
                                <p:cTn id="5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120"/>
                            </p:stCondLst>
                            <p:childTnLst>
                              <p:par>
                                <p:cTn id="5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84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20:05:09Z</dcterms:created>
  <dc:creator>Zver</dc:creator>
  <dc:description/>
  <dc:language>en-US</dc:language>
  <cp:lastModifiedBy>Vadim</cp:lastModifiedBy>
  <dcterms:modified xsi:type="dcterms:W3CDTF">2008-03-02T12:02:06Z</dcterms:modified>
  <cp:revision>73</cp:revision>
  <dc:subject/>
  <dc:title>Презентация PowerPoint</dc:title>
</cp:coreProperties>
</file>