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D1C-CA60-4415-B14A-9DAD5292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A32-D745-4A5F-A799-C9080870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526-9730-4D10-909C-3E0B2453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CCB-8257-4B74-AC1B-928098A3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FB5-2144-48E5-8C39-4314D9FE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D2A-3EAE-4953-991C-3DD9AAE3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421-FE14-43E0-A319-DCEA73F3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DE0-1F3C-4BEB-8927-F74FC816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BFF-2976-4BA4-B85B-B45AC54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3ED-7946-4B20-A589-6FCCC92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9A6-67EC-4374-AEF9-456B146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E36-408F-49B9-A65A-C5DB052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D441-A202-42E7-8FED-8D0FFCD0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торая вариация и достаточные условия экстремум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1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 переходе к достаточным условиям экстремума функционалов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еобходим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в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нятие втор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о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ц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и функционал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грающее ту же роль, что дифференциал второго порядка при исследовании экстремума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риации высших порядков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8120"/>
            <a:ext cx="861048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а приращения функционала на его вариацию может быть уточнена с помощью добавления членов высшего порядка мал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приводит к разложению в ря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ый ряду Тейлора для функц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вариации соответственно второго, третьего и т. д. порядков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дая из них получается с помощью варьирования предыдущей (т.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т.д.), в процессе котор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читается не зависящим от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95280" y="4038480"/>
                <a:ext cx="6858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4920" y="6095880"/>
                <a:ext cx="1295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δ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8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8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2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7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ямые методы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8580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тоды численного решения вариационной задачи в ее исходной постановке, без перехода к уравнению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асс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етодо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ближенного отыскания неизвестных функци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ы сужения числа степеней свобод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зависимые переменные остаются непрерывными, но функция ищется в том или ином специальном виде, включающем несколько параметров, которые затем подбираются из требования наилучшим образом удовлетворить условиям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апример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 интерполя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етод наименьших квадр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ы дискретиза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(сеточные методы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я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бором ее значений в узлах некоторой сет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апример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ы численного интегрирования обыкновенных дифференциальных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40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12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480"/>
                            </p:stCondLst>
                            <p:childTnLst>
                              <p:par>
                                <p:cTn id="6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96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Ритца для квадратичного функционал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н из методов сужения числа степеней свобо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Рассмотрим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вадратичный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ближенное выражение для искомой экстрема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.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ые выбранные функ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бира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ются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условия стационарности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бирается удовлетворяющей граничным условия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азисные</a:t>
            </a: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ординатные</a:t>
            </a: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</a:t>
            </a:r>
            <a:r>
              <a:rPr b="0" i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и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2, ...,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выбираются удовлетворяющими однородным граничным условиям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38280" y="1676520"/>
                <a:ext cx="4191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]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124080" y="2819520"/>
                <a:ext cx="2895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32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82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8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18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34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380"/>
                            </p:stCondLst>
                            <p:childTnLst>
                              <p:par>
                                <p:cTn id="7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179280"/>
            <a:ext cx="8686800" cy="64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авляют часть бесконечной системы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нейно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зависимой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ной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транств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овлетворяющих условия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не учитывается конкретный вид функционала (1), берутся систе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3 …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…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исходная задача имеет единственное решение, то приближенные решения, построенные по методу Ритца, 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ходятся к точном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920" y="1905120"/>
                <a:ext cx="1371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3429000"/>
                <a:ext cx="3200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19520" y="4343400"/>
                <a:ext cx="251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kπ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96080" y="5842080"/>
                <a:ext cx="838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609480"/>
            <a:ext cx="86868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ти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а в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риационны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поис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реализующ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кстремальное или стационарное значение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поис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а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стави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ближе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еш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2) в правую часть (1), получим многочлен второй степени относительно произвольных пара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одим к системе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которо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ти параметр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38280" y="3200400"/>
                <a:ext cx="4267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4508640"/>
                <a:ext cx="2361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44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8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80"/>
                            </p:stCondLst>
                            <p:childTnLst>
                              <p:par>
                                <p:cTn id="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8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5228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ведем рабочее обо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адратичная часть функции (6)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 представляет собой систему линейных алгебраических уравнений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симметрической матриц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при небольшо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гко реша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g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йно независимы, то квадратичная форма (8) положительно определенная, что облегчает решение системы 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ближенное решение по методу Ритца получа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ся подстановк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денное решение в правую часть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05120" y="533520"/>
                <a:ext cx="5257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1600200"/>
                <a:ext cx="1752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352680" y="3048120"/>
                <a:ext cx="13716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44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36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860"/>
                            </p:stCondLst>
                            <p:childTnLst>
                              <p:par>
                                <p:cTn id="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Канторович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868680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применении метода Ритца к функционалу (9) выбирается следующая система координатных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ени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щ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неизвестные постоян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38280" y="990720"/>
                <a:ext cx="4114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19320" y="1828800"/>
                <a:ext cx="6858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u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95480" y="3581280"/>
                <a:ext cx="358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4800600"/>
                <a:ext cx="4190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4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740"/>
                            </p:stCondLst>
                            <p:childTnLst>
                              <p:par>
                                <p:cTn id="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9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4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6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260"/>
                            </p:stCondLst>
                            <p:childTnLst>
                              <p:par>
                                <p:cTn id="9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04920"/>
            <a:ext cx="86868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методе Канторовича выражение для экстремали берется в 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—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известны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и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емы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м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ом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функционал (9) достигал экстремального значения. Отыскание решения в виде (10) позволяет расширить класс экстремал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 подстановки (10) в (9) и интегрирования полученного выражения по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лучается следующий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лжны удовлетворя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е уравн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йлера-Лагранж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приближенное решени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ида (10) – заданным граничным условиям на прям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971800" y="762120"/>
                <a:ext cx="3124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1371600"/>
                <a:ext cx="685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23880" y="3505320"/>
                <a:ext cx="5943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01720" y="4229280"/>
                <a:ext cx="7621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4788000"/>
                <a:ext cx="1238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819520" y="4927680"/>
                <a:ext cx="1981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/>
                        </m:sSubSup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Φ</m:t>
                        </m:r>
                      </m:e>
                      <m: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sSup>
                              <m:e/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32040" y="5753160"/>
                <a:ext cx="9907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Галеркин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86868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неизвестная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довлетворяет в некоторой обла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едующей краевой задач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границ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некоторый линейный дифференциальный опера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линейный оператор граничных услов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ближенное решен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раевой задачи (11) ищется в виде сум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неопределенные коэффици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— система линейно независимых непрерывно дифференцируемых функций, удовлетворяющих однородным краевым услов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вязк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200400" y="1371600"/>
                <a:ext cx="27432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55800" y="1930320"/>
                <a:ext cx="15242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429000" y="3581280"/>
                <a:ext cx="23623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23960" y="4584600"/>
                <a:ext cx="328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6720" y="5867280"/>
                <a:ext cx="2666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328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780"/>
                            </p:stCondLst>
                            <p:childTnLst>
                              <p:par>
                                <p:cTn id="10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4280"/>
                            </p:stCondLst>
                            <p:childTnLst>
                              <p:par>
                                <p:cTn id="10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6160"/>
                            </p:stCondLst>
                            <p:childTnLst>
                              <p:par>
                                <p:cTn id="1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120"/>
                            </p:stCondLst>
                            <p:childTnLst>
                              <p:par>
                                <p:cTn id="10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620"/>
                            </p:stCondLst>
                            <p:childTnLst>
                              <p:par>
                                <p:cTn id="10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5" dur="8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8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94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52280"/>
            <a:ext cx="868680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эффициент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ются из условия ортогональности в обла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вязк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функциям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 как оператор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ен, то (12) запишется в каноническом виде, удобном для вычислен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в 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 а м е ч а н и 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использовать ортогональность невязки к другой линейно независимой системе 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бираемой из удобства вычислений получаемых интегра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666880" y="533520"/>
                <a:ext cx="3254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95680" y="533520"/>
                <a:ext cx="723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1066680"/>
                <a:ext cx="3505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86000" y="2514600"/>
                <a:ext cx="4648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38280" y="3505320"/>
                <a:ext cx="4343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90720" y="4419720"/>
                <a:ext cx="2163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495680" y="5676840"/>
                <a:ext cx="37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610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дая из этих вариаций обладает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войством однородности с соответствующим показателе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Б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ем пользоватьс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ак первым, та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вторым член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ряда (1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.е. более точной формул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онкретных примерах разлож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1) и (2) получаются с помощью обычного ряда Тейло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38280" y="1828800"/>
                <a:ext cx="4343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Cδ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71600" y="3809880"/>
                <a:ext cx="624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δy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8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8680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я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уча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в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. д. должны быть подставлены зна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'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сюда получаем выражение для второй вари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сь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76720" y="762120"/>
                <a:ext cx="25905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38080" y="2209680"/>
                <a:ext cx="73915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δy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57400" y="2971800"/>
                <a:ext cx="49528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δ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δyδ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δ</m:t>
                    </m:r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3886200"/>
                <a:ext cx="307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52480" y="4800600"/>
                <a:ext cx="5562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rSub { size 8{y'y'} } δy' rSup { size 8{2} }  \)  ital </m:t>
                        </m:r>
                        <m: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3000" y="5943600"/>
                <a:ext cx="2895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δ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δy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δy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ловия экстремума в терминах второй вариаци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57200"/>
            <a:ext cx="868680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нимает 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тационарное значение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. е.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пр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правой части (2) первый член отсутствует, и главным становится втор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этому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любо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пр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любо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акс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ет принимать значения обоих знаков, то п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инимак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экстремума не бу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лее тщательный анализ показывает, что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статочное условие мини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общем случае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const &gt;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условие для функциональных пространств более сильное, чем прост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800280"/>
                <a:ext cx="1447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514600" y="5334120"/>
                <a:ext cx="2438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≥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δy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013280" y="774720"/>
                <a:ext cx="711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194440" y="469800"/>
                <a:ext cx="711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016600" y="2108160"/>
                <a:ext cx="711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2806560"/>
                <a:ext cx="711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69360" y="3441600"/>
                <a:ext cx="711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обходимые условия Лежандр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85800"/>
            <a:ext cx="8686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некоторых граничных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торая вариация такого функционала выражается по формуле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гко проверить, чт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ложительные значения, то 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 положительные зна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рицательны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ения, то 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 отрицательные зна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29000" y="914400"/>
                <a:ext cx="2362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52480" y="2895480"/>
                <a:ext cx="55627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rSub { size 8{y'y'} } δy' rSup { size 8{2} }  \)  ital </m:t>
                        </m:r>
                        <m: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33720" y="4800600"/>
                <a:ext cx="1295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98680" y="4406760"/>
                <a:ext cx="228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33720" y="6019920"/>
                <a:ext cx="1295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1600" y="5638680"/>
                <a:ext cx="228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} {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4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4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16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6868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значим для краткости коэффициенты квадратичной формы под знак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грала (3)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дстановк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и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оответстве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ерез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пуст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0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берем в качеств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ю, график которой изображен жирной линией на рисун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467480" y="533520"/>
                <a:ext cx="1143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6" name=""/>
          <p:cNvGraphicFramePr/>
          <p:nvPr/>
        </p:nvGraphicFramePr>
        <p:xfrm>
          <a:off x="1905120" y="2133720"/>
          <a:ext cx="53337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3337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49528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14400" y="5486400"/>
                <a:ext cx="7315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limUp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δ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limUpp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ε</m:t>
                                    </m:r>
                                    <m:r>
                                      <m:t xml:space="preserve">ψ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δyδy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limUpp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ε</m:t>
                                            </m:r>
                                          </m:e>
                                          <m:lim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ε</m:t>
                                            </m:r>
                                            <m:r>
                                              <m:t xml:space="preserve">χ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δ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'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lim>
                                        </m:limUpp>
                                      </m:sub>
                                      <m:sup/>
                                      <m:e/>
                                    </m:nary>
                                  </m:lim>
                                </m:limUpp>
                              </m:sub>
                              <m:sup/>
                              <m:e/>
                            </m:nary>
                          </m:lim>
                        </m:limUp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4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52280"/>
            <a:ext cx="868680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яя при мал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эффициенты их значениями в точ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олучаем приближенные выражения для слагаемых в правой части 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∙0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ит, при мал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ся сумма (5) положитель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обходим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словиям Лежандр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онал при некоторых граничных условиях имеет 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хотя бы слабый) минимум, 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x≤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же максимум, 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x≤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аточное условие для минимакс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для экстремал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имает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я обоих знаков, то пр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имеет минимак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обходимые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я Лежандра не являются достаточ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24080" y="914400"/>
                <a:ext cx="1067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10080" y="888840"/>
                <a:ext cx="906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128080" y="2209680"/>
                <a:ext cx="6858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84400" y="3048120"/>
                <a:ext cx="2819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 &gt;= 0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60720" y="4114800"/>
                <a:ext cx="274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 \( }} x \)  \)  &lt;= 0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908440" y="4952880"/>
                <a:ext cx="533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60920" y="4952880"/>
                <a:ext cx="22860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740560" y="5283360"/>
                <a:ext cx="685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68680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л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 нескольких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пример от двух функций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торая вариаци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ме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и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декс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нимают независимо один от другого знач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в случа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скомых функций - вс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й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обходим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словия Лежанд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я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авляет рассматриваемому функционалу при некоторых граничных условиях минимум, то квадратичная фор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любо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не должна принимать отрицательные зна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удет максимум, то (6) должна быть всюду на отрезк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положительн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же для экстремал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атрица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меет, хотя бы пр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зличны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обственные значен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боих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ков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имеет минимак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990720"/>
                <a:ext cx="79246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rSub { size 8{y rSub { size 6{ {} rSub {i} } } y rSub { size 6{ {} rSub {j} } } } } δy rSub {i}  size 12{y rSub {j} } size 12{+{}}}  Sum cSub {i,j}  { size 12{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y</m:t>
                                </m:r>
                                <m:sSub>
                                  <m:e>
                                    <m:r>
                                      <m:t xml:space="preserve">'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rSub {y' rSub { size 6{ {} rSub {i} } } y' rSub { size 6{ {} rSub {j} } } }  size 12{δy' rSub {i} } size 12{y' rSub {j} }} }  size 12{ \)  ital </m:t>
                        </m:r>
                        <m: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}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24080" y="3657600"/>
                <a:ext cx="2895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59120" y="5626080"/>
                <a:ext cx="533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13480" y="5626080"/>
                <a:ext cx="5331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87520" y="2882880"/>
                <a:ext cx="9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66960" y="4749840"/>
                <a:ext cx="9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83480" y="5956200"/>
                <a:ext cx="99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8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30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обходимое условие Якоб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71520"/>
            <a:ext cx="8686800" cy="63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для некоторой 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овлетворяются уравнение Эйлера и граничные услов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означим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т. д.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няет знак на интерва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инимаксное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полаг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ч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храняет зна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означи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z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функционале (3)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уда подставле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да уравнением Эйлера дл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3) бу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7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авнением Якоб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исходного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означим чере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чку, сопряжённую с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носительно этого уравнения. 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&gt;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функционал (3) имеет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инимум, а потому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п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бый 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ж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&lt;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 функционал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бый минимак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 вместо минимума надо говорить о максимум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и условия 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зываю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ловиями Якоб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13280" y="422280"/>
                <a:ext cx="533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1057320"/>
                <a:ext cx="2438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013600" y="1400040"/>
                <a:ext cx="533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66960" y="1438200"/>
                <a:ext cx="419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705720" y="1743120"/>
                <a:ext cx="838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733840"/>
                <a:ext cx="3200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5400" y="2060640"/>
                <a:ext cx="99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39960" y="5969160"/>
                <a:ext cx="8380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368960" y="171756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784680" y="4956120"/>
                <a:ext cx="99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83560" y="5299200"/>
                <a:ext cx="99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41:48Z</dcterms:created>
  <dc:creator>Zver</dc:creator>
  <dc:description/>
  <dc:language>en-US</dc:language>
  <cp:lastModifiedBy>Vadim</cp:lastModifiedBy>
  <dcterms:modified xsi:type="dcterms:W3CDTF">2008-03-03T17:21:30Z</dcterms:modified>
  <cp:revision>127</cp:revision>
  <dc:subject/>
  <dc:title>Презентация PowerPoint</dc:title>
</cp:coreProperties>
</file>