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CB3-A92B-4A2C-8EFC-BD43D0CA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85C-CFD0-4D6F-BD37-2DA5FD3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8DB-1E4D-44BC-8D1A-7BA244C0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83D-9A99-40AA-AA7E-AD6AA28E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7B6-F5D2-42BA-A90B-FEFD4CA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94D-6452-4308-BAF2-50E999B9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CC9-401A-46D5-8F36-4E6F931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CDE-1ABC-4AA2-9A93-A878F438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A58-4E87-4EF4-9ACA-A3DC035E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16B-574D-4231-8781-2ADA94A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F76-812A-4D43-ACC6-B95CBC67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F08-EC70-4445-86A0-C67F086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B95-7799-4C80-B69B-31AC1E8A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ИНАМИЧЕСКАЯ ОПТИМИЗАЦИЯ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2193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некоторые переменные величи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арамет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о некоторое множество функций врем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ество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ю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ак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ремени, принадлежа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ножеству управлений. Выбранные функции времени определяют, какой вид имеют функции времени некоторых других перем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исыв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ведение систем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 переменные 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азовыми координата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 фазовых координат в каждый момент времени выбираются таким образом, чтобы максимизировать (минимизировать) заданный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висящий от фазовых координат и управляющи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 времени для управляющих параметров и для фазовых координат связаны с помощью системы дифференциальных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3280" y="6858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3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астные случа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861048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об оптимальном быстродействи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задача о минимальном времени переход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 минимальное время перевести фазовую точку из заданного начального положения в заданное конечное полож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-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о брахистохрон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ассическ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мер задачи о минимальном времени перехо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2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бот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сервомеханизмов (автоматических следящих устройст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вест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желательные состояния объект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каждый момент времени определенного промежутка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бу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еспечить, чтобы фактические значения фазового вектора в каждый момент времени были достаточно близкими к желательным состоя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ункция, измеряющая отрицательный эффект от различия между фактическим и желательным состояние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на минимум э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Ц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левой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висит только от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14800" y="32004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72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20"/>
                            </p:stCondLst>
                            <p:childTnLst>
                              <p:par>
                                <p:cTn id="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иды управления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33520"/>
            <a:ext cx="86868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ение по разомкнутому конту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тимальное управление определяется как функция времен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ностью определяется в начальный момен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ыскивается в результате интегрирования уравнений движения при фиксированных началь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ение по замкнутому контуру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с обратной связью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тимальное управление определяется как функция текущих фазовых координат и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я можно пересматривать с учетом новой информации, которую несут текущие фазовые координат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определения оптимального управления по замкнутому контуру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ей синтез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40"/>
                            </p:stCondLst>
                            <p:childTnLst>
                              <p:par>
                                <p:cTn id="7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88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88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28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управления как задача программирова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бесконечномерном пространстве</a:t>
            </a:r>
            <a:r>
              <a:rPr b="0" lang="ru-RU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143000"/>
            <a:ext cx="8686800" cy="49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 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личается от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бщей задачи управ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едующ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ном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носится к классу задач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с 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содержит только один управляющий параметр и одну фазовую координа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90920" y="1828800"/>
                <a:ext cx="7617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81280" y="1714680"/>
                <a:ext cx="1067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8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80"/>
                            </p:stCondLst>
                            <p:childTnLst>
                              <p:par>
                                <p:cTn id="7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620"/>
                            </p:stCondLst>
                            <p:childTnLst>
                              <p:par>
                                <p:cTn id="7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72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280"/>
                            </p:stCondLst>
                            <p:childTnLst>
                              <p:par>
                                <p:cTn id="8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520"/>
                            </p:stCondLst>
                            <p:childTnLst>
                              <p:par>
                                <p:cTn id="8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720"/>
                            </p:stCondLst>
                            <p:childTnLst>
                              <p:par>
                                <p:cTn id="8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914400"/>
            <a:ext cx="86868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ный промежуток времен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но разбить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рвалов равной длины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я измеряется в дискретных единицах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меняется о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ния и управления замеряются в дискретные моменты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1828800"/>
                <a:ext cx="67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880"/>
                            </p:stCondLst>
                            <p:childTnLst>
                              <p:par>
                                <p:cTn id="8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400"/>
                            </p:stCondLst>
                            <p:childTnLst>
                              <p:par>
                                <p:cTn id="8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720"/>
                            </p:stCondLst>
                            <p:childTnLst>
                              <p:par>
                                <p:cTn id="8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240"/>
                            </p:stCondLst>
                            <p:childTnLst>
                              <p:par>
                                <p:cTn id="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457200"/>
            <a:ext cx="868680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граммирования с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еременной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1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фиксированный положительный парамет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т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ностные уравнения в (13) превращаются в дифференциальные уравнения задачи 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у управления можно считать задачей математического программирования в бесконечномерном простран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м пространством является множество всех кусочно-непрерывных вещественных функци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ых на промежут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971800" y="990720"/>
                <a:ext cx="914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267080" y="838080"/>
                <a:ext cx="1600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Δ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038480" y="3200400"/>
                <a:ext cx="557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limLow>
                          <m:e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lim>
                            <m:limLow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e>
                              <m:lim/>
                            </m:limLow>
                          </m:lim>
                        </m:limLow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88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38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30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22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2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20"/>
                            </p:stCondLst>
                            <p:childTnLst>
                              <p:par>
                                <p:cTn id="9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5080" y="228600"/>
            <a:ext cx="868032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орема Вейерштр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допустимое 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компактным (т.е. ограниченным и замкнутым) и непустым. Тогда непрерывная целевая функци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определенная на этом множестве, достигает глобального максимума на внутренней или граничной точке множеств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казатель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.к.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 непрерывной функции, определенной на компактном множестве, является компактн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мы имеем множество действительных чисел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х услови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для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торое является компакт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якое компактное множество действительных чисел имеет верхнюю грань. Таким образом, есл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верхней грань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существует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й услов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так ка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всех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точка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глобальным максимум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960"/>
                            </p:stCondLst>
                            <p:childTnLst>
                              <p:par>
                                <p:cTn id="9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920"/>
                            </p:stCondLst>
                            <p:childTnLst>
                              <p:par>
                                <p:cTn id="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04920"/>
            <a:ext cx="86868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енная теорема Вейерштр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 общей задачи управления (9) существует, если целевой функционал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непрерывным функционалом от функций управления и под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есконечномерного пространства, к которому принадлежат управления, является компакт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казательст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значим символо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ную верхнюю границу функционал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 вс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все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Возьмем некоторую последовательность управлени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акую ч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 как множество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компактное, то эта последовательность содержит подпоследовательность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ходящуюся к некоторому управлению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19720" y="426708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64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8" dur="8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8580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дователь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 как функциона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е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оптимальным является упр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которог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} = J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898800" y="1257480"/>
                <a:ext cx="41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67160" y="4089240"/>
                <a:ext cx="609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619440" y="5753160"/>
                <a:ext cx="60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4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6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12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762120"/>
            <a:ext cx="86868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управления в классическом вариационном исчислен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и множества функций времени – фазовых траектор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соединяющих две фиксированные точки, соответствующие начальному и конечному моментам времени, требуется выбрать функцию, максимизирующую (минимизирующую) некоторый интеграл от заданной функции, которая зависит от фазовой координаты, скорости изменения фазовой координаты и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лассическая задача вариационного исчисл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непрерывно дифференцируемая функ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ые параметр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2480" y="4648320"/>
                <a:ext cx="762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95480" y="449568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ОННОЕ ИСЧИСЛЕ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520"/>
                            </p:stCondLst>
                            <p:childTnLst>
                              <p:par>
                                <p:cTn id="1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20"/>
                            </p:stCondLst>
                            <p:childTnLst>
                              <p:par>
                                <p:cTn id="1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18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460"/>
                            </p:stCondLst>
                            <p:childTnLst>
                              <p:par>
                                <p:cTn id="1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огая формулировка задач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57200"/>
            <a:ext cx="8839440" cy="66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ая величин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аданная на промежутк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чаль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мен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времен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ычно известе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мен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времен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асто требуется определи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ординат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ществ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ис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,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арактериз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тояние системы в любо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ектор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азов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точк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мерный векто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фазовых координа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овая траектория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ая вектор-функция времени, значениями которой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 указанного промежутка являются фазовые векторы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е начало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ное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чальное состоя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кончание –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ечное состояние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4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2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4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762120"/>
            <a:ext cx="8610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 задача является частным случаем общей задачи управ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тору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входит функция конечных параметров (задача Лагранжа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ходит одна фазовая координа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ходит один управляющий параметр – скорость изменения фазовой координа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7848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676520"/>
            <a:ext cx="7696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й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условии, чт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ован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070000" y="2374920"/>
                <a:ext cx="806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76720" y="224784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12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360"/>
                            </p:stCondLst>
                            <p:childTnLst>
                              <p:par>
                                <p:cTn id="1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360"/>
                            </p:stCondLst>
                            <p:childTnLst>
                              <p:par>
                                <p:cTn id="1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3480"/>
                            </p:stCondLst>
                            <p:childTnLst>
                              <p:par>
                                <p:cTn id="1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8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е движения в этом случае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меняе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яющий параметр может принимать любое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 должно отвечать единственному условию – быть кусочно-непрерывной функцией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юб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она удовлетворяет граничным условиям из (1) и следующему условию непрерывност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непрерывна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кусочно-непрерывная функция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480"/>
                            </p:stCondLst>
                            <p:childTnLst>
                              <p:par>
                                <p:cTn id="1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680"/>
                            </p:stCondLst>
                            <p:childTnLst>
                              <p:par>
                                <p:cTn id="1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880"/>
                            </p:stCondLst>
                            <p:childTnLst>
                              <p:par>
                                <p:cTn id="1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4680"/>
                            </p:stCondLst>
                            <p:childTnLst>
                              <p:par>
                                <p:cTn id="1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9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8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360"/>
                            </p:stCondLst>
                            <p:childTnLst>
                              <p:par>
                                <p:cTn id="1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228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арамет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ществе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и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ла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арактериз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щ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ыборы (решения), которые нужно осуществлять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ляющ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ектор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ектор-столбец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ставленный из управляющи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'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равлени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"траекторией управления") называется функц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= 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ми этой функции в каждый дан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ются управляющие векторы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яющ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 и 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очно-непрерыв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92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6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16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8394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авляющий вектор в каждый момент времени из интервал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ен принадлежать некоторому фиксированному непустому подмножеству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мерного евклидова пространств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ычно множество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выпуклым и компактным (т.е. замкнутым и ограниченным) и инвариантно относительн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равление (4)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ы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если оно представляет собой кусочно-непрерывную функцию времени, значения которой в любой момент времени  из указанного интервала принадлежат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ество управлени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ножество всех допустимых управлений. Управление должно принадлежать указанному множеству управл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тся из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й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в развернутом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2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52280" y="5943600"/>
                <a:ext cx="1600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2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92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72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457200"/>
            <a:ext cx="883944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прерывно дифференциру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ифференциальные уравнения (5) не зависят явно от времени, то уравнения движения 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номным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ые автономные уравнения движ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матрица размерност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фиксированная матрица размерност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заданы начальные значения и управл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существует единственная фазовая траектор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ая уравнениям движения и граничным условия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котор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щет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ированием дифференциальных уравнений при данных начальных условия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6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32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8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04920"/>
            <a:ext cx="883944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азовая траектория, найденная в результате решения уравнений движения при данном начальном состоянии с использованием допустимого управления,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пустим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любая фазовая точка на фазовой траектории, которую можно достичь за конечное время,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стижим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тся услови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заданное подмножество в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зываемое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ечной поверхность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фиксированным времен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неч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 в явной форме как параметр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с закрепленным конц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 в явной форме как вектор параметров задач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76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8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16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4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610480" cy="63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Боль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Целево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J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=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зависит от фазовых координа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правляющи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параметр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емен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ое слагаемо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6)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нечных параметр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казывает, что функционал зависит от конечного состояния и от конечного момента времен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н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рерывно дифференцируем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581280" y="114300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2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64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2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72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8400"/>
            <a:ext cx="853416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я конечных параметров тождественно равна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айер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дынтегральная функция равна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у Больца можно свести к задаче Майера, определив дополнительную фазовую координат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выражение (6)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функционал такого типа является целевым функционалом задачи Май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09880" y="990720"/>
                <a:ext cx="1828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16120" y="4178160"/>
                <a:ext cx="4572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48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72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4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2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8534160" cy="68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щая задач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йт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 услови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пр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еометрическая интерпре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 множества допустимых фазовых траекторий, начало которых соответствует заданному начальному состоян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начальный момент времен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ребуется выбрать определенную фазовую траекторию, при этом необходимо учитывать, что каждая допустимая фазовая траектория осуществляется при использовании некоторого допустимого управл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тимальной траектори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является такая допустимая фазовая траектория, заканчивающаяся на конечной поверхности, на которой достигается максимум целев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8280" y="914400"/>
                <a:ext cx="762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lim>
                    </m:limLow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657600" y="83808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80"/>
                            </p:stCondLst>
                            <p:childTnLst>
                              <p:par>
                                <p:cTn id="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2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4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0:05:09Z</dcterms:created>
  <dc:creator>Zver</dc:creator>
  <dc:description/>
  <dc:language>en-US</dc:language>
  <cp:lastModifiedBy>Vadim</cp:lastModifiedBy>
  <dcterms:modified xsi:type="dcterms:W3CDTF">2008-03-02T12:02:06Z</dcterms:modified>
  <cp:revision>73</cp:revision>
  <dc:subject/>
  <dc:title>Презентация PowerPoint</dc:title>
</cp:coreProperties>
</file>