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6CD-45F7-4494-9F78-8E5CEAFE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155-0FCA-4FC5-AB0F-781F9BB4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80D-81B4-4248-AF2B-36F9AE0F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4C3-4C06-4F98-AA1F-09B0E14E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51D-973F-46CF-AEC2-2950300A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482-2D48-433E-9636-F37028FC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699-C2EE-4099-BD76-0252C33D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470-36CC-4A05-8B81-6DFCB83C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35E-9EBE-4C9F-8E46-84A79CCB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395-5DD9-43AC-942B-07957555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1AA-AD50-490C-8367-B136D055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528-9527-42E9-9F79-C1A568DC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A8F6-801E-490A-BCEF-404366C3A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авнение Эйлер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457200"/>
            <a:ext cx="883944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обходимое условие экстре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держащ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лько иском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оит из двух частей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)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авнения Эйлер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обычно дифференциального), которому реш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лжно удовлетворять внутри области своего опреде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2)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бавочных граничных услов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с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Б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ем сравнивать значения 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всех непрерывн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ифференцируемых функц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х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их заданны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чным услов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(2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основани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луча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любой функци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ей условиям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657600" y="2590920"/>
                <a:ext cx="22860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905120" y="5334120"/>
                <a:ext cx="53337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y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743200" y="6172200"/>
                <a:ext cx="1295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981080" y="4800600"/>
                <a:ext cx="13716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733920" y="4648320"/>
                <a:ext cx="39621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δy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δ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12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36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16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8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16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88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6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11240"/>
            <a:ext cx="8686800" cy="64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висящий от двух функц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заданных 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иксиру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варьиру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олучаем частную вариаци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огично выражается частная вариация п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ставится задача об экстремуме функционала при простейших граничных услови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й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, реализующих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экстремум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астные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ариации должны равняться нул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С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ем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уравнений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43200" y="533520"/>
                <a:ext cx="3513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772400" y="1523880"/>
                <a:ext cx="479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38280" y="1905120"/>
                <a:ext cx="4095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895480"/>
                <a:ext cx="4216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438280" y="4800600"/>
                <a:ext cx="6336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00400" y="4800600"/>
                <a:ext cx="650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66880" y="5867280"/>
                <a:ext cx="1743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95680" y="5867280"/>
                <a:ext cx="1730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914400"/>
            <a:ext cx="868680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с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вух независимых переменных, заданных в некоторой области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лоскост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риац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ф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стандартные сокращенные обозначения для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чное услов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начение функци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но на контуре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области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Г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задано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*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895480" y="1947960"/>
                <a:ext cx="324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90920" y="3090960"/>
                <a:ext cx="40100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;</m:t>
                        </m:r>
                        <m:r>
                          <m:t xml:space="preserve">δ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z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p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10280" y="3471840"/>
                <a:ext cx="343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772400" y="3471840"/>
                <a:ext cx="36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95480" y="4081320"/>
                <a:ext cx="1473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724280" y="4081320"/>
                <a:ext cx="147348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∂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05880" y="152280"/>
            <a:ext cx="79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ункционалы от функций нескольких перемен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6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800"/>
                            </p:stCondLst>
                            <p:childTnLst>
                              <p:par>
                                <p:cTn id="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300"/>
                            </p:stCondLst>
                            <p:childTnLst>
                              <p:par>
                                <p:cTn id="7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8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720"/>
                            </p:stCondLst>
                            <p:childTnLst>
                              <p:par>
                                <p:cTn id="7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91440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внение Остроградског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 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вн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Эйлера для функционала с функциями двух переменны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звернутая форма этого уравнения таков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риационная задача сводится к решению этого уравнения при граничном условии (*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52680" y="1752480"/>
                <a:ext cx="24163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66680" y="3276720"/>
                <a:ext cx="6958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q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120"/>
                            </p:stCondLst>
                            <p:childTnLst>
                              <p:par>
                                <p:cTn id="7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2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и с подвижными границами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914400"/>
            <a:ext cx="86868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ничные условия на функцию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 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на концах отрезк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; 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 зафиксирова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стейшая задача вариационного исчисления с подвижными границами состоит в определении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;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точе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которых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стигает слабого экстремума при услови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,z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нные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х,у,z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непрерывные частные производные до второго порядка включительно по всем аргумента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2349360"/>
                <a:ext cx="1422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00400" y="2654280"/>
                <a:ext cx="2708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971800" y="3797280"/>
                <a:ext cx="16286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76920" y="3797280"/>
                <a:ext cx="1558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4920" y="4406760"/>
                <a:ext cx="2415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4160"/>
                            </p:stCondLst>
                            <p:childTnLst>
                              <p:par>
                                <p:cTn id="8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660"/>
                            </p:stCondLst>
                            <p:childTnLst>
                              <p:par>
                                <p:cTn id="8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2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20"/>
                            </p:stCondLst>
                            <p:childTnLst>
                              <p:par>
                                <p:cTn id="8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520"/>
                            </p:stCondLst>
                            <p:childTnLst>
                              <p:par>
                                <p:cTn id="8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520"/>
                            </p:stCondLst>
                            <p:childTnLst>
                              <p:par>
                                <p:cTn id="8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317520"/>
            <a:ext cx="8686800" cy="62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Другая формулировка задачи с подвижными границ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на плоскости заданы гладкие кривые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ебуется найти такую гладкую кривую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y(x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оторая соединяет какую-либо точку крив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 какой-либо точкой крив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доставляет слабый экстремум функционалу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стигал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абог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кстремум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ловиях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обходимо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бы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овлетворяла уравнению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словиям трансверсаль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133720" y="1523880"/>
                <a:ext cx="1496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038480" y="1523880"/>
                <a:ext cx="14972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16440" y="1547640"/>
                <a:ext cx="10112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657600" y="4800600"/>
                <a:ext cx="1644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200400" y="5867280"/>
                <a:ext cx="2655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6195960"/>
                <a:ext cx="26226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440"/>
                            </p:stCondLst>
                            <p:childTnLst>
                              <p:par>
                                <p:cTn id="8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720"/>
                            </p:stCondLst>
                            <p:childTnLst>
                              <p:par>
                                <p:cTn id="9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8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58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762120"/>
            <a:ext cx="86868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Д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я определения экстремалей в простейшей задаче с подвижным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цам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обходим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йти общее решен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авнения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 условия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 уравн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ить постоянны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 концы отрезк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на одном из концов искомой крив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но обычное граничное услови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условие трансверсальност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едует записать только для другого конца крив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3124080"/>
                <a:ext cx="24512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00600" y="3124080"/>
                <a:ext cx="2278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2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7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8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914400"/>
            <a:ext cx="86868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. 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на абсцисса одного из концов крив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например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но граничное условие дл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сутствуе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т.е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граничная точк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рив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жет перемещаться по вертикальной прям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=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сто второго условия трансверсальност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следует записать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тественное граничное услов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2. З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а Боль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едел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;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доставляющ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лабый экстремум функционал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3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,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- заданная функция, имеющая непрерывные производные п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962520" y="2895480"/>
                <a:ext cx="1147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286000" y="4572000"/>
                <a:ext cx="4422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996840" y="304920"/>
            <a:ext cx="71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астны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луча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задач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 подвижными границ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9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760"/>
                            </p:stCondLst>
                            <p:childTnLst>
                              <p:par>
                                <p:cTn id="10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260"/>
                            </p:stCondLst>
                            <p:childTnLst>
                              <p:par>
                                <p:cTn id="10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460"/>
                            </p:stCondLst>
                            <p:childTnLst>
                              <p:par>
                                <p:cTn id="10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4" dur="8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6" dur="8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609480"/>
            <a:ext cx="8686800" cy="55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того чтобы функционал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3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достигал на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;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лабого экстремума, необходимо, чтобы эта функция удовлетворяла уравнению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условиям трансверсальности для задачи Больц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ловия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4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спользуются для определения постоянны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з общего реш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, 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равнения Эйле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733920" y="2438280"/>
                <a:ext cx="1644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438280" y="3962520"/>
                <a:ext cx="21592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952880" y="3962520"/>
                <a:ext cx="21430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120"/>
                            </p:stCondLst>
                            <p:childTnLst>
                              <p:par>
                                <p:cTn id="1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680"/>
                            </p:stCondLst>
                            <p:childTnLst>
                              <p:par>
                                <p:cTn id="10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и на условный экстрему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80880"/>
            <a:ext cx="8686800" cy="64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дачи на условный экстрему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 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и вариационного исчисления, в которых на искомые функции накладываются, помимо граничных условий, дополнительные ограни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Задача Лагран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айти э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стремум функционала, зависящего от нескольких функ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граничными услов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дополнительных ограничениях, заданных уравнениями с граничными услов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…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&lt;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Ф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нкц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Лагранж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рассматриваемой задач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произвольные функции (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жители Лагранж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447920" y="2286000"/>
                <a:ext cx="634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1268280" cy="37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419720" y="3505320"/>
                <a:ext cx="12333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848200" y="3524400"/>
                <a:ext cx="10796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4876920"/>
                <a:ext cx="29131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33520" y="5943600"/>
                <a:ext cx="5005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486400" y="5791320"/>
                <a:ext cx="2652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990720" y="6400800"/>
                <a:ext cx="15238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24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740"/>
                            </p:stCondLst>
                            <p:childTnLst>
                              <p:par>
                                <p:cTn id="1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4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6" dur="8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840"/>
                            </p:stCondLst>
                            <p:childTnLst>
                              <p:par>
                                <p:cTn id="1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8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800"/>
                            </p:stCondLst>
                            <p:childTnLst>
                              <p:par>
                                <p:cTn id="1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8" dur="80"/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80"/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480"/>
                            </p:stCondLst>
                            <p:childTnLst>
                              <p:par>
                                <p:cTn id="1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980"/>
                            </p:stCondLst>
                            <p:childTnLst>
                              <p:par>
                                <p:cTn id="1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1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228600"/>
            <a:ext cx="8686800" cy="64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ставляют слабый экстремум функционалу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при условиях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то существуют множители Лагранж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которых эти функции удовлетворяют системе уравнений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8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писанных для функционал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помощью необходимого условия 6 решение задачи об условном экстремуме функционал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водится к исследованию экстремума функционал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без дополнительных условий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использовании необходимого условия 6 для решения задачи Лагранжа искомые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=1,..., 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 множители Лагран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яются из систем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+m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авнений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8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429000" y="1647720"/>
                <a:ext cx="6174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89240" y="2486160"/>
                <a:ext cx="1679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29000" y="3505320"/>
                <a:ext cx="2125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d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14280" y="6029280"/>
                <a:ext cx="6177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4480"/>
                            </p:stCondLst>
                            <p:childTnLst>
                              <p:par>
                                <p:cTn id="1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2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240"/>
                            </p:stCondLst>
                            <p:childTnLst>
                              <p:par>
                                <p:cTn id="1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6" dur="8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7" dur="8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8" dur="8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8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228600"/>
            <a:ext cx="883944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интегрируем второй член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по част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одставив полученный результат в (3), получа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под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нимаетс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на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изводная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авленна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ётом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висимост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кры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ыражение полной производной по формуле производной сложной функци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получим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уравнение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57200" y="762120"/>
                <a:ext cx="2714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57200" y="1295280"/>
                <a:ext cx="83818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δy</m:t>
                    </m:r>
                    <m:sSubSup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y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00200" y="2743200"/>
                <a:ext cx="54864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124080" y="3429000"/>
                <a:ext cx="1965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95280" y="4038480"/>
                <a:ext cx="324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209680" y="4648320"/>
                <a:ext cx="236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19320" y="5867280"/>
                <a:ext cx="6324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4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94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68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18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68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64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14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52280"/>
            <a:ext cx="868680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опериметрическ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я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задач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– 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а на условный экстремум функционала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с граничными условиям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при дополнительных условия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нтегральны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х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вяз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ях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9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я Лагранж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анной задачи 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множителями Лагранжа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являются произвольные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ещественные чис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решении изопериметрической задачи используется необходимое условие экстре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057400" y="1371600"/>
                <a:ext cx="3444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00200" y="3200400"/>
                <a:ext cx="6064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L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71800" y="3809880"/>
                <a:ext cx="31510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998880" y="4896000"/>
                <a:ext cx="2570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9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400"/>
                            </p:stCondLst>
                            <p:childTnLst>
                              <p:par>
                                <p:cTn id="1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3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8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40"/>
                            </p:stCondLst>
                            <p:childTnLst>
                              <p:par>
                                <p:cTn id="1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940"/>
                            </p:stCondLst>
                            <p:childTnLst>
                              <p:par>
                                <p:cTn id="1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2440"/>
                            </p:stCondLst>
                            <p:childTnLst>
                              <p:par>
                                <p:cTn id="1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4" dur="80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5" dur="80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6" dur="80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762120"/>
            <a:ext cx="861048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, 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ставляют слабый экстремум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у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при условиях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9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то существуют чис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множители Лагранжа), при которых эти функции удовлетворяют системе уравнений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…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2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я Лагранж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использовании необходимого условия 7 для решения изопериметрической задачи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...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множители Лагранж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1, …, m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находятся из систем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+ m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равнений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19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2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8001000" y="1447920"/>
                <a:ext cx="8906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276720" y="2819520"/>
                <a:ext cx="173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38080" y="3733920"/>
                <a:ext cx="2224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L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00200" y="5105520"/>
                <a:ext cx="2570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228600"/>
            <a:ext cx="883944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сякое решение уравнения Эйлера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кстремаль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Экстремал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дает этому функционалу стационарное значение в следующем смысл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юбое такое решение, взятое н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котором интервал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x ≤b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ru-RU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a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если произвольно проварьирова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а этом интервале, не меняя значе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кстремалями называются также графики решен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нтегральные линии уравн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вокупность экстремале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разует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вухпараметрическое семейство функц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00400" y="3276720"/>
                <a:ext cx="25146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00400" y="533520"/>
                <a:ext cx="22860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44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4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92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авнение Эйлера в квадратурах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457200"/>
            <a:ext cx="883944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уравнение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содержит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8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равнение Эйлера принима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имеет очевидный первый интегр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)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Функц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 не содержит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 имеется интегр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505320" y="990720"/>
                <a:ext cx="1523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81280" y="2209680"/>
                <a:ext cx="1447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581280" y="2971800"/>
                <a:ext cx="1143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429000" y="4038480"/>
                <a:ext cx="1523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352680" y="4800600"/>
                <a:ext cx="1447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505320" y="5562720"/>
                <a:ext cx="1477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'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4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2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8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2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52280"/>
            <a:ext cx="88394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)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Функци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е содержит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y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=F(x, y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внение Эйлера принима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шен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олученного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нечн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г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равн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 содержит произвольных постоянных и, следовательно, удовлетворяет граничным условиям только в исключительных случая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)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Функция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 не содержит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х 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 y, y')= F(y'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уравнении Эйлер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внение Эйлера принима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го общее решен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=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+С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мейство экстремал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780000" y="1413000"/>
                <a:ext cx="15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66880" y="4191120"/>
                <a:ext cx="1067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038480" y="4191120"/>
                <a:ext cx="11430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4120" y="4191120"/>
                <a:ext cx="8380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962520" y="5562720"/>
                <a:ext cx="1066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2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12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6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8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8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68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12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28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общения простейшей задачи вариационного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счисл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838080"/>
            <a:ext cx="86868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дача на экстремум функционал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висящего от производных высших порядк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функционал вид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ет непрерывные частные производные вплоть д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го порядка по всем аргумента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чные условия в этой задаче имею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…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, …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743200" y="2362320"/>
                <a:ext cx="38052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47920" y="3429000"/>
                <a:ext cx="2262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415200" y="3762360"/>
                <a:ext cx="16444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4800600"/>
                <a:ext cx="1062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114800" y="4800600"/>
                <a:ext cx="11318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715000" y="4800600"/>
                <a:ext cx="14050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5410080"/>
                <a:ext cx="1028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14800" y="5410080"/>
                <a:ext cx="1130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91320" y="5410080"/>
            <a:ext cx="1387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0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609480"/>
            <a:ext cx="8686800" cy="39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того чтобы функционал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достигал на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окального экстремума, необходимо, чтобы эта функция удовлетворяла уравнению Эйлера-Пуассо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шения уравнения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удовлетворяющие граничным условиям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являются кривыми возможного абсолютного экстремума этого функционала на множеств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010280" y="1295280"/>
                <a:ext cx="1629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09680" y="2514600"/>
                <a:ext cx="4816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520" y="4800600"/>
                <a:ext cx="81756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9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40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2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04920"/>
            <a:ext cx="86868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мотрим функционал ви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8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 граничными услов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ариация функционала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8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меет вид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внен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Эйлера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мее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внение Эйлера для такого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 производными порядка д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ключительно имеет порядок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00400" y="838080"/>
                <a:ext cx="2708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 {</m:t>
                            </m:r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0" y="26668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828800" y="2362320"/>
                <a:ext cx="10796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132000" y="2349360"/>
                <a:ext cx="11480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72000" y="2362320"/>
                <a:ext cx="1062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791320" y="2362320"/>
                <a:ext cx="11318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971800" y="3429000"/>
                <a:ext cx="329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y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y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δ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4724280"/>
                <a:ext cx="258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Sup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4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4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96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685800"/>
            <a:ext cx="868680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функционал имеет вид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функц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непрерывные частные производные до второго порядка включительно по всем своим аргументам 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…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чные условия в этой задаче имеют ви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обходимое условие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того чтобы набор функц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ставлял слабый экстремум функционалу (9), необходимо, чтобы эти функции удовлетворяли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истем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ифференциальных уравнений Эйле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=1, …,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371600" y="1104840"/>
                <a:ext cx="634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4920" y="2438280"/>
                <a:ext cx="1730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752560" y="3638520"/>
                <a:ext cx="38055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15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ункционалы от нескольких функц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124080" y="5638680"/>
                <a:ext cx="1712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b>
                      <m:e>
                        <m:r>
                          <m:t xml:space="preserve">F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4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44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56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0:06:09Z</dcterms:created>
  <dc:creator>Zver</dc:creator>
  <dc:description/>
  <dc:language>en-US</dc:language>
  <cp:lastModifiedBy>vadim</cp:lastModifiedBy>
  <dcterms:modified xsi:type="dcterms:W3CDTF">2008-03-04T18:28:43Z</dcterms:modified>
  <cp:revision>127</cp:revision>
  <dc:subject/>
  <dc:title>Презентация PowerPoint</dc:title>
</cp:coreProperties>
</file>