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E7E-2620-4049-B78F-4280ED63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CD9-EBBA-4383-9363-193FFBF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669-C332-449E-A53C-A6ACF1CF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44C-9BEE-4BDD-9B69-E93DBA9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272-05CD-49B9-AD88-129DFBE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245-A106-4A05-8BF4-DA7F3A42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120-80AE-4659-A530-623EF664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2E1-4D84-4BB1-A8D1-34FEFFAD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0F3-983E-4054-A7EB-0491F3F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072-EA2D-467F-88ED-26BCF0A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7FB-7CE7-4605-8120-EBA6B49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033-6E4C-4AD9-A796-8B28B41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4F64-53A7-4E93-A356-2E91852F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меры простейших задач вариационного исчисл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 надо расположить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и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чтобы охваченный ею участок имел наибольшую площад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концы нити расположены в заданных точка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сводится к максимизации площад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заданном значении длины нит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заданных краевых знач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мой формой нити служит дуга окруж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0770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82000" y="4572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Д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48520" y="3809880"/>
                <a:ext cx="1143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257800" y="4494240"/>
                <a:ext cx="1447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'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8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6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457200"/>
            <a:ext cx="883944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и непрерывных на конечном интервал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 норм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 норма отвечает равномерному уклонению функций друг от друг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и непрерывных пр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месте со своей производной, с норм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вводя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, 3,.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 Гильберт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 обязательно непрерывных, для которых нор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||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имает конечное значение. Э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орма отвечает среднеквадратичному уклонению двух функций друг от друг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81280" y="1219320"/>
                <a:ext cx="2057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24080" y="3200400"/>
                <a:ext cx="3429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8320" y="5029200"/>
                <a:ext cx="13716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Виды ф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нкциональны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пространств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24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74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6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1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84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34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3880"/>
            <a:ext cx="876312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ть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кальный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акси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ит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ех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й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 тождественно рав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достаточно 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се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смыс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говорят, что на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иг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льный макси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се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лизких к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смыс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говорят о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ом максимум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ьный экстремум всегда будет также и слабым, но обратное не обязательно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066680"/>
            <a:ext cx="883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38800" y="1504800"/>
                <a:ext cx="990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2190600"/>
                <a:ext cx="533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410080" y="220968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00600" y="281952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533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Типы э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стремум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ов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95560" y="219060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89548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88620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15040" y="386712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ариац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линейного функционала равна главной линейной части его приращ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мена приращения на вариацию означает линеаризацию функционала при переходе от одной функц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 которой зависит значение функционал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 другой, близкой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 которой зависит знач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функционал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начала совпадала с некоторо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затем мы перешли к некоторой другой, близкой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я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8120" y="2971800"/>
                <a:ext cx="4381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3276720"/>
                <a:ext cx="11998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380988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это вариация функци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.е. произвольная фу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ия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ло уклоняющаяся от нуля и добавл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ма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исходной функци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учен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ой,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варьированно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19320" y="3886200"/>
                <a:ext cx="533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3959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90920" y="4857840"/>
                <a:ext cx="4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1148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371600" y="548640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88160" y="3352680"/>
            <a:ext cx="312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86200" y="838080"/>
                <a:ext cx="1981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52280" y="533520"/>
            <a:ext cx="8839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905120"/>
            <a:ext cx="883944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переходе от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получит приращ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фиксирована, а функцию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но выбирать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извольн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ит из двух частей, каждая из которых представляет собой функционал относитель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62320" y="1905120"/>
                <a:ext cx="533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29000" y="1905120"/>
                <a:ext cx="1295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47800" y="2722680"/>
                <a:ext cx="7391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y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r>
                                  <m:t xml:space="preserve">+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09680" y="3962520"/>
                <a:ext cx="479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48520" y="3962520"/>
                <a:ext cx="533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14680" y="5076720"/>
                <a:ext cx="1295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8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72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380880"/>
            <a:ext cx="8839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вая ч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ладает свойством линейности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.е. это линейный функционал, тогда как вторая ч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мал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высший порядок малости. Таким образом,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едставляет собой главную линейную часть приращен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функционала при переходе от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первой) вариацией δI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жно напис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в силу произвольности функци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ы заменили ее обозначение 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33920" y="847800"/>
                <a:ext cx="1676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038480" y="2295360"/>
                <a:ext cx="1295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705200" y="378144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4648320"/>
                <a:ext cx="32767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δ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86200" y="3743280"/>
                <a:ext cx="479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19720" y="5419800"/>
                <a:ext cx="479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8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98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12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380880"/>
            <a:ext cx="8839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н произвольный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{у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реходим от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+ δу(х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ращение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представить в виде суммы двух слагаем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в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слагае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фиксированной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ый функционал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(x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ариа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ункционала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р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слагае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сший порядок мал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а приращения функционала на его вариацию означае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инеаризаци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т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4080" y="2209680"/>
                <a:ext cx="2819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8120" y="3200400"/>
                <a:ext cx="3200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733920" y="4495680"/>
                <a:ext cx="1828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280"/>
                            </p:stCondLst>
                            <p:childTnLst>
                              <p:par>
                                <p:cTn id="8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88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38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98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48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6094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получа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95480" y="1066680"/>
                <a:ext cx="32767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43200" y="1828800"/>
                <a:ext cx="3429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7200" y="2514600"/>
                <a:ext cx="81327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δy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члены высшего порядка малости</m:t>
                        </m:r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743200" y="3048120"/>
                <a:ext cx="3490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y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29000" y="426708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5486400"/>
                <a:ext cx="4114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84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84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6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ое условие экстремум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57200"/>
            <a:ext cx="868680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усть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ая функц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ализует локальный максимум или минимум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выбранном функциональном пространств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имеет вариац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считать, что рассматривается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енни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н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ум, т.е.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 для всех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аточно 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ысле выбранной нор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т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минимум 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некотор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стави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δ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мест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каля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уч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 малы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|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вая час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ожитель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прав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зна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енное противоречие доказывает необходимость условия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657600" y="457200"/>
                <a:ext cx="533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38480" y="1447920"/>
                <a:ext cx="1067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00200" y="24382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124080"/>
                <a:ext cx="274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δy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67080" y="3657600"/>
                <a:ext cx="85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28560" y="3968640"/>
                <a:ext cx="990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7640" y="5037120"/>
                <a:ext cx="8001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22860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нкретных задачах часто рассматривается экстремум функционала среди функций, удовлетворяющих добавочным линейным неоднородным условиям, нап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этом случа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но выполняться для любой вариа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ей соответствующим однородным услов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ые неоднородные условия определяют в пространств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иперплоск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ставится задача об экстремуме функционала на некотором криволинейном многообраз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странства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, проводя линеаризацию в точке экстремума, получим, чт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но выполняться для любой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надлежащей касательной гиперплоскости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оведенной в точке экстре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00400" y="1371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76720" y="3124080"/>
                <a:ext cx="25146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36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960"/>
                            </p:stCondLst>
                            <p:childTnLst>
                              <p:par>
                                <p:cTn id="10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762120"/>
            <a:ext cx="8839440" cy="58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плоско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аны две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тояние между этими точками определяется по формуле длины д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выражение является функционалом, потому что численная величина его зависит от вида или формы кривых, проходящих через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ерез эти же точки можно провести бесчисленное множество крив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этого множества нужно найти экстремал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ую кривую, при которой интеграл (1) имеет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кривой будет прямая линия – это совпадает с определением Евклида, который определил прямую как кратчайшее расстояние между двумя точк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48000" y="1989000"/>
                <a:ext cx="20574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901160" y="152280"/>
            <a:ext cx="524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кратчайшем расстоян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16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609480"/>
            <a:ext cx="8839440" cy="61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ерез две заданные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верхней полуплоскости проходит некоторая кривая, не пересекающая ос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ащ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ая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округ ос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ковая поверхность тела вращения определяется по формуле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2) является функционалом, потому что численная величина его зависит от вида или формы кривой, проходящей через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всевозможных кривых, соединяющих эти точки, нужно выбрать экстремаль, т.е. такую  кривую, при которой интеграл (2) будет иметь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кривой окажется цепная линия, откуда и само название з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819520" y="2286000"/>
                <a:ext cx="25905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68560" y="152280"/>
            <a:ext cx="306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катеноид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2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8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8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7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685800"/>
            <a:ext cx="883944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яжелая материальная точ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масс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катывается под действием силы тяжести из 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полож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 идеально гладкой крив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рость движения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чально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ч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рость движения 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межуточ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по закону сохранения энер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ускорение свободного падения, 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                             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рость есть производная от пути п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2514600"/>
                <a:ext cx="1981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661840" y="152280"/>
            <a:ext cx="374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брахистохрон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4114800"/>
                <a:ext cx="1828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52680" y="4191120"/>
                <a:ext cx="1981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67280" y="4191120"/>
                <a:ext cx="1905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0400" y="5410080"/>
                <a:ext cx="2666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ra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6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4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6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228600"/>
            <a:ext cx="8839440" cy="69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равнивая формулы для скоростей, получ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ку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мя ската из 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полож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ится по формул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3) является функционалом, потому что численная величина его зависит от формы кривой, соединяющ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множества всех кривых нужно выбрать такую, при которой интеграл (3) имеет наименьшее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ивая кратчайшего времени называется брахистохрон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00400" y="685800"/>
                <a:ext cx="2666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ra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47920" y="1219320"/>
                <a:ext cx="2209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rad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66880" y="304812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8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6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24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4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36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880"/>
            <a:ext cx="88394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он, по которому каждой функции из некоторого класса функций ставится в соответствие определенное число, называется функционалом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онное исчисление изучает экстремумы функционал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 для все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данных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принимающих там конечные знач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итс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сказать что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это функция, у которой значениями независим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ат обычные функции, а значениями зависим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ат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267080" y="2133720"/>
                <a:ext cx="19814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867280" y="3581280"/>
                <a:ext cx="18288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6,4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67280" y="426708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33720" y="4800600"/>
                <a:ext cx="914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867280" y="4952880"/>
                <a:ext cx="1752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2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2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4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6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457200"/>
            <a:ext cx="88394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инейный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еще один функционал, отличный от (4), так ка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 на другом классе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менно, определенных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па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(4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609480"/>
                <a:ext cx="2057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029200" y="1981080"/>
                <a:ext cx="2743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71800" y="2666880"/>
                <a:ext cx="1523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8120" y="4343400"/>
                <a:ext cx="1447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5791320"/>
                <a:ext cx="151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≡</m:t>
                    </m:r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2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4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4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3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26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4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4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2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4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4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2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808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ьные пространств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219320"/>
            <a:ext cx="8839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ласть определения функционал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окупность функций, для которых он рассматрива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ставляет собой некоторое линейное пространств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его част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)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щее из функций, над которыми линейные действия выполняются по простейшим правил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е пространства называются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ональными пространств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е пространства обычно являются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рмирован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их имеется понятие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рм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характеризующей уклонение функции от тождественного нул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2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609480"/>
            <a:ext cx="883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едставляет собой конечное действительное число и должна удовлетворять следующим требова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сиомы нор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||≥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ч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=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лько для тождественно нулевой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 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·||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 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≤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+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сстоян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ду любыми элементам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ормированном простран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||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48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1:29:48Z</dcterms:created>
  <dc:creator>Zver</dc:creator>
  <dc:description/>
  <dc:language>en-US</dc:language>
  <cp:lastModifiedBy>Zver</cp:lastModifiedBy>
  <dcterms:modified xsi:type="dcterms:W3CDTF">2008-03-02T06:48:47Z</dcterms:modified>
  <cp:revision>97</cp:revision>
  <dc:subject/>
  <dc:title>Презентация PowerPoint</dc:title>
</cp:coreProperties>
</file>