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89C-E8D6-4CFF-9D50-DB41AE4E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C55-C432-4882-96DC-5CF1F57A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DC0-0084-43E9-BFEB-03FCADD0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DD8-A9D7-4FBE-A5CF-14EA3166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74C-5F2D-4436-862B-B8DCA3F3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10F-5993-4142-BC74-0DCD9272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E75-283B-4482-AEF9-C59F4F09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8E0-1463-4C4F-AAF6-D9EBB24F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872-6E04-45E2-A574-85A96C31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030-25E5-4E20-9144-BDA798A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211-CBDB-4D41-8384-AB8E23DA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52E-6C39-41B2-BBCC-A1D6D8B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3C5C-F2AE-4A4A-9CE6-342D5594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839440" cy="59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вляется основным математическим приемом, используемым для расчета оптимального управления при решении задач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оторых на управляющие параметры наложены весьма общие ограничения, хотя обычно заранее предопределяется ряд свойст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цип максимума применяется к общей задаче управления, имеющей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Arial Unicode MS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заданные непрерывно дифференцируемые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ые парамет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ова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ножест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ектория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кусочно-непрерывная функция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ус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мпакт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дмножество пространств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НЦИП МАКСИМУМА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514600" y="2438280"/>
                <a:ext cx="38862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34340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3880" y="3352680"/>
                <a:ext cx="5631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 u, 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∈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44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пустимые управления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480" y="546120"/>
            <a:ext cx="8839080" cy="62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ус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ояние объекта в каждый момент времени характеризу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еременным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например, координатами и скоростями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кторное пространств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екторно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является фазовым пространством рассматриваемого объек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атематической точки зрени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ведение (движение) объекта заключается в том, что переменны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еняются с течением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полагается, что движением объекта можно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я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дую функцию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ую на некотором отрезк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ен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принимающую значения в пространств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мы будем называть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влени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лас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ет быть любым топологическим хаусдорфовым пространств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в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ы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правления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адлежащие некото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м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аране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бра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ом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лас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28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80"/>
                            </p:stCondLst>
                            <p:childTnLst>
                              <p:par>
                                <p:cTn id="6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143000"/>
            <a:ext cx="883944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Условие 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е управл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инадлежащие класс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лжны быть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меримы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раничен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зывается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меримы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для любого открытого множест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ножество тех значен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ля котор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змеримо на отрезк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граниче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множество всех точек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в пространств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мпактное замыка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4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К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асс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допустимых управлений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должен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довлетворя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ть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3-м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слов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14400"/>
            <a:ext cx="883944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Условие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допустимое управление и если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произвольна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чка пространст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a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'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"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такие числа, чт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'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"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мое формул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же является допустимым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0" y="2743200"/>
                <a:ext cx="38098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 {</m:t>
                            </m:r>
                            <m:r>
                              <m:t xml:space="preserve">t</m:t>
                            </m:r>
                          </m:e>
                          <m:e/>
                          <m:e>
                            <m:r>
                              <m:t xml:space="preserve">'</m:t>
                            </m:r>
                            <m:r>
                              <m:t xml:space="preserve">≤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624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674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14400"/>
            <a:ext cx="8839440" cy="44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Условие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отрезок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разбить точками деления на конечное число частичных отрезков, на каждом из которых управление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пустимо, то это управление допустимо и на всем отрезк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тимое управление, рассматриваемое на частичном отрезке, также является допустим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, получающееся из допустимого управления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двигом времени (т. е. управление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—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&lt;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акже является допустим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066680"/>
            <a:ext cx="8839440" cy="39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 всех измеримых ограниченных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жество всех кусо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ых управлений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множеств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й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каждое из которых непрерывно для всех рассматриваем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 исключением лишь конечного числа моментов времени, где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ет терпеть разрывы первого род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 всех кусо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тоянных управлени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 кусо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нейных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римеры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лас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ов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допустимых управ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457200"/>
            <a:ext cx="883944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ставл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бой необходимое условие оптимальности в задачах оптимального управ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т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уч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бще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тимального управ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(1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полагается, ч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менты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ова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ча с закрепле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ножеств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 зависит от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азовые ограничения отсутствую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нцип максимума Понтрягина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90920" y="1828800"/>
                <a:ext cx="38098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2286000"/>
                <a:ext cx="41148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90920" y="3505320"/>
                <a:ext cx="411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14600" y="4114800"/>
                <a:ext cx="4267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ℜ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81080" y="4876920"/>
                <a:ext cx="5335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4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4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040"/>
                            </p:stCondLst>
                            <p:childTnLst>
                              <p:par>
                                <p:cTn id="8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6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6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76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26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760"/>
                            </p:stCondLst>
                            <p:childTnLst>
                              <p:par>
                                <p:cTn id="8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04920"/>
            <a:ext cx="883944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лож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констант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ей Гамильтон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линейных дифференциальных уравн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носительно переменных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зывается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пряженн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истемой, соответствующей управлению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раектор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более подробной покоординатной записи сопряженная система принимает ви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меет при любых начальных условиях единственное реш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ое и непрерывное на всем отрезк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660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084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0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33640" y="372960"/>
                <a:ext cx="31244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23960" y="1135080"/>
                <a:ext cx="315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705040" y="1135080"/>
                <a:ext cx="238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29080" y="2735280"/>
                <a:ext cx="12380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924360" y="3268800"/>
                <a:ext cx="1447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10160" y="2583000"/>
                <a:ext cx="19051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71880" y="4944960"/>
                <a:ext cx="51814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277040" y="6164280"/>
                <a:ext cx="60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33440" y="6240600"/>
                <a:ext cx="217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еорема (принцип максимума Понтрягина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95280"/>
            <a:ext cx="88394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орема выражает необходимые условия оптимальности в задаче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ют частные производные по переменным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непрерывны вместе с этими производными по совокупности аргумент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положим, ч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решение задачи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существует решение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пряженной системы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ответствующей управлени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раектори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константа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е, что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выполняются следующие услови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33720" y="1981080"/>
                <a:ext cx="13716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62520" y="1981080"/>
                <a:ext cx="14284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362320" y="2286000"/>
                <a:ext cx="990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09880" y="2666880"/>
                <a:ext cx="2845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81280" y="3733920"/>
                <a:ext cx="27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828800" y="4343400"/>
                <a:ext cx="774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962520" y="4343400"/>
                <a:ext cx="1206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1320" y="4343400"/>
                <a:ext cx="1023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76320"/>
            <a:ext cx="883944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1.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ие максиму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Гамильтон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стигает максимума п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при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т. 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ие трансверсальности на левом конце траектор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ществуют числа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акие, ч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3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ие трансверсальности на правом конце траектор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ществуют числ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акие, чт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Центральным в теореме является условие максиму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отказаться от предположения о том, что конечный момент времен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, т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условие 3 примет вид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3080" y="525600"/>
                <a:ext cx="1155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229280" y="449280"/>
                <a:ext cx="1676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23960" y="830160"/>
                <a:ext cx="6984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19280" y="1125360"/>
                <a:ext cx="6330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90920" y="1905120"/>
                <a:ext cx="965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52680" y="2286000"/>
                <a:ext cx="19814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14600" y="3200400"/>
                <a:ext cx="1066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59280" y="3573360"/>
                <a:ext cx="346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5410080"/>
                <a:ext cx="4572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28800" y="6019920"/>
                <a:ext cx="6019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640"/>
                            </p:stCondLst>
                            <p:childTnLst>
                              <p:par>
                                <p:cTn id="1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140"/>
                            </p:stCondLst>
                            <p:childTnLst>
                              <p:par>
                                <p:cTn id="1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меры задач оптимального управления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3880"/>
            <a:ext cx="88394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сматрива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етательный аппарат, положение которого описывается следующими параметрам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льность и высота пол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личина и угол наклона к горизонту вектора скор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ль управлений играют угол атаки и функция, отвечающая возможности изменять в полете геометрию крыльев (т.е. их эффективную площад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ти такие управляющие функции, которые доставляют максимум дальности пол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аксимизация дальности полета аппарата в атмосф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4320"/>
                            </p:stCondLst>
                            <p:childTnLst>
                              <p:par>
                                <p:cTn id="1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8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лассификация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тимального управления динамическими систе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ана система, объект, процес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описывается дифференциальным уравнени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вектор фазовых координа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вектор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врем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вектор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ложены ограничен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а рассматривается на интерва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, T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ебуется определить вектор–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t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ющие минимум функционал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J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переводе из начального состоя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, 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конечное  состоя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, 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и оптимального управления классифицируются по способу задания функционала, по способу задания ограничений вдоль траектории и по способу задания краевых условий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52680" y="19051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28600" y="685800"/>
            <a:ext cx="8915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рмулировк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и оптим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8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42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1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1295280"/>
            <a:ext cx="88394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сматрива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яемый ракетный аппарат, состояние которого задается координатами в трехмерном пространстве, вектором скорости и значением масс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осуществляется выбором направления и абсолютного значения тяги рак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ак управлять ракетой, чтобы в фиксированный момент времени она достигла заданной точки, имея определенную скорость и израсходовав минимум топлива (т.е. имея максимально возможную массу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ракетодинамики в однородном пол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задача об оптимальном в смысле расхода топли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вижении ракеты в пустот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2133720"/>
            <a:ext cx="8839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яние ракеты задается значениями высоты, скорости и масс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состоит в выборе тяги, которая максимизировала бы высоту подъема при свободной продолжительности поле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572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максимальной высоте подъема вертикально взлетающей в атмосфере ракеты-зо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066680"/>
            <a:ext cx="883944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ферме 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ме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тадо ско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жегодно часть стада отправляется на мясозаготовки, причем доход фермы зависит от количества проданного ско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ой переменной выступает количество скота на ферме в конце каждого года после мясозаготово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яющим параметром - количество проданного на мясо ско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ить, каким образом ферма может получить максимальный доход за несколько лет при определенном минимуме ежегодных мясозаготовок и заданном значении поголовья скота на конец планового перио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049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б оптимизации мясозагото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360"/>
                            </p:stCondLst>
                            <p:childTnLst>
                              <p:par>
                                <p:cTn id="1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609480"/>
            <a:ext cx="883944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ая заданная начальная сумма денег затрачивается на приобретение оборудования двух типо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помощью этого оборудования организуется производство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пределяя имеющиеся средства между различными типами оборудования, к концу срока эксплуатации получают определенный экономический эффек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тем амортизированное оборудование реализуют, а вырученные средства используют как начальную сумму для следующего цикла,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ти такую стратегию распределения средств для покупки оборудования типо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каждом цикле, чтобы обеспечить наибольший экономический эффект после фиксированного числа производственно-экономических цик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тимальное распределение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3560"/>
                            </p:stCondLst>
                            <p:childTnLst>
                              <p:par>
                                <p:cTn id="1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5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6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8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2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3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4" dur="8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828800"/>
            <a:ext cx="864216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яни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бъекта описывается функцией распределения температуры по длине стержня и в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ь управления играет плотность тепловых источник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оит в отыскании такого управления, для которого распределение температуры как можно быстрее достигает заданного состоя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спределение температуры в тонком стержне конечной длины с теплоизолированными кон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0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0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990720"/>
            <a:ext cx="8839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ориентации вытянутых спутников вдоль вертикали часто используется эффект собственной устойчивости, обусловленный слабым градиентом поля тягот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т эффект приводит к колебаниям при отклонении от положения равновесия, которые требуется погасить с наименьшими затратами топлива, если демпфирование производится с помощью ракетного двигател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ачестве фазовых переменных берутся угол и скорость отклонения оси спутника относительно текущего радиуса-вектора центра масс на орб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ением является тяга реактивного двигател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емпфирование колебаний спутника на круговой орбит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0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1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2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5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6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143000"/>
            <a:ext cx="8839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ссматрива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прерывная модель возрастной структуры популяции, разделенной на две возрастные групп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заключается в том, что в обеих группах может происходить "пополнение-изъятие 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Ц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лью управлен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максимизация дохода от урожая, за вычетом издержек на пополн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ыми переменными являются численности популя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пример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дель можно трактовать как процесс эксплуатации некоторого водоема посредством выпуска мальков и отлова взрослых экземпляров рыб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б оптимальном управлении возрастной структурой попу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8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3160"/>
                            </p:stCondLst>
                            <p:childTnLst>
                              <p:par>
                                <p:cTn id="1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2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3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8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8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8" dur="8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990720"/>
            <a:ext cx="87631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стояни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расли описывается величиной основных производственных фондов, количество которых растет за счет капитальных вложений и уменьшается за счет физического и морального изно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питальные вложения в отрасль играют роль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терий оптимально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оцессов одновременно учитывает экономию капиталовложений, с одной стороны, и увеличение основных производственных фондов отрасли - с друг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у задачу можно обобщить на случай нескольких отрас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распределение капитальных вложений нужно осуществить не только во времени, но и между отраслями, которые являются "конкурентами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птимального распределения капитальных вложений в отрасли на заданном интервале план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92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2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3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960"/>
                            </p:stCondLst>
                            <p:childTnLst>
                              <p:par>
                                <p:cTn id="1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7" dur="8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8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особы задания функционал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09680"/>
            <a:ext cx="88394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дифференцируемая функция своих аргумен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отсутствии ограничений на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ча называется задачей Лагранжа и является классической задачей вариационного исчис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ачестве примера можно рассмотреть агрегат, который должен дать максимальное количество проду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этом функци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смысл мгновенной производительности, а интеграл – полную выработку проду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484360" y="1484280"/>
                <a:ext cx="4276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522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тегральный функци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6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457200"/>
            <a:ext cx="8839440" cy="59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инимизируется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ально задача Майера является более общей, чем задача Лагранжа Любая задача Лагранжа может рассматриваться как частный случай задачи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йствительно, достаточно вве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ую скалярную переменну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ый фазовый в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система будет описываться уравнение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минимизации подлежит функциона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ча о достижении наибольшей дальности ракет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Май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81280" y="3581280"/>
                <a:ext cx="1752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657600" y="4267080"/>
                <a:ext cx="1371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67280" y="4724280"/>
                <a:ext cx="1905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105520" y="5425920"/>
                <a:ext cx="1981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6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8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6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6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3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236232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Больца может быть сведена к задаче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Боль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 смешанного 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66880" y="1523880"/>
          <a:ext cx="419112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41911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314964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на быстро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9625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Этим термином объединяются задачи, в которых функционалом является врем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en-US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ребуется перевести систему из одного состояния в другое за минимальное врем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1066680"/>
            <a:ext cx="883944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1.</a:t>
            </a:r>
            <a:r>
              <a:rPr b="0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r>
              <a:rPr b="0" i="1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граничения только на управ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Например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При наличии ограничений на управление классические методы оказываются непригод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</a:t>
            </a:r>
            <a:r>
              <a:rPr b="0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r>
              <a:rPr b="0" i="1" lang="ru-RU" sz="2200" spc="-1" strike="noStrike">
                <a:solidFill>
                  <a:srgbClr val="800000"/>
                </a:solidFill>
                <a:latin typeface="Arial Unicode MS"/>
                <a:ea typeface="Times New Roman"/>
              </a:rPr>
              <a:t>граничения на фазовые перемен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Наприме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Могут быть ограничения типа равен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 Unicode MS"/>
                <a:ea typeface="Times New Roman"/>
              </a:rPr>
              <a:t>или типа неравен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049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Способы задания огранич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86200" y="4724280"/>
                <a:ext cx="1447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9880" y="5486400"/>
                <a:ext cx="1524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68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32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2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82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4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0"/>
            <a:ext cx="8839440" cy="69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3.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С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вместные ограничения на управление и фазовые переменные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ывают случаи, когда ограничение на управление и фазовые координаты не могут быть разделены (в экономике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 также ограничения типа равен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неравенст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4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опериметрическая задач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дач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интегральными ограничениями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скалярные функции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опериметрическая задача может быть сведена к задаче Лагранжа или Майера увеличением размерности фазового вектора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 j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, 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124080" y="1523880"/>
                <a:ext cx="13716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48120" y="2286000"/>
                <a:ext cx="1371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505320" y="3124080"/>
                <a:ext cx="2209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16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36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86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38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86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48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98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94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12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1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96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7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3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7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990720"/>
            <a:ext cx="85881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1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фиксированными конца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ыделяют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фиксированным и не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о свободным конц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 зада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ыделяют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фиксированным и не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3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подвижными конца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о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жат на некоторых гиперповерхностя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]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00400" y="4419720"/>
                <a:ext cx="15238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ℵ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4624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90720" y="5410080"/>
                <a:ext cx="3352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особы задания краевы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88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84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0"/>
                            </p:stCondLst>
                            <p:childTnLst>
                              <p:par>
                                <p:cTn id="5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36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86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36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и с дискретным време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85800"/>
            <a:ext cx="883944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атрив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истемы, описываемые конеч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ностными уравнениям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для таких задач будет иметь вид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Боль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пример, изопериметрические ограничения записываются в вид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8120" y="2666880"/>
                <a:ext cx="2514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2590920" y="3962520"/>
          <a:ext cx="31240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962520"/>
                    <a:ext cx="31240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81280" y="5384880"/>
                <a:ext cx="1905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60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8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9:27:02Z</dcterms:created>
  <dc:creator>Vadim</dc:creator>
  <dc:description/>
  <dc:language>en-US</dc:language>
  <cp:lastModifiedBy>Vadim</cp:lastModifiedBy>
  <dcterms:modified xsi:type="dcterms:W3CDTF">2008-03-02T13:04:25Z</dcterms:modified>
  <cp:revision>84</cp:revision>
  <dc:subject/>
  <dc:title>Презентация PowerPoint</dc:title>
</cp:coreProperties>
</file>