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B359D-B63A-4950-AFAF-CC812BB77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AFF4F-41E3-4D8E-8825-5538BAFC9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39A82-B3AD-4B0D-8F04-951DB1F60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B9A7F-D95E-4E2E-AAAF-C049489AE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C63FA-3FE7-4485-A54C-892F2DA81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5813C-8A94-4A10-8419-3F0C1EB22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9FA82-0BFD-4BAF-AB4B-322A6561C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24E26-FC1F-4930-94A9-1A015A9FD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105FF-53C3-45E5-964A-ED2CFE479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8D0B0-1CE2-4C44-B819-4656D8632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69604-87C7-42E8-B161-3A0D0A2BD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67680-1AF7-40E9-BCD6-F8F8B19AD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EAD0F-02B5-415F-BC07-2524E36636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Уравнение Эйлера</a:t>
            </a:r>
            <a:r>
              <a:rPr b="0" lang="en-US" sz="26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52280" y="457200"/>
            <a:ext cx="8839440" cy="61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Необходимое условие экстремума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,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содержаще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е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только искомое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решение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,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состоит из двух частей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1) </a:t>
            </a:r>
            <a:r>
              <a:rPr b="0" i="1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уравнения Эйлера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(обычно дифференциального), которому решение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  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должно удовлетворять внутри области своего определения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2)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добавочных граничных условий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Р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ассм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о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три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м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функционал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(1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Б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удем сравнивать значения функционал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а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для всех непрерывно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дифференцируемых функций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(х)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, удовлетворяющих заданным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граничным условиям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                                          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у</a:t>
            </a:r>
            <a:r>
              <a:rPr b="0" i="1" lang="ru-RU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у</a:t>
            </a:r>
            <a:r>
              <a:rPr b="0" i="1" lang="ru-RU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                           (2)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На основании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</a:rPr>
              <a:t>                   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  и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</a:rPr>
              <a:t> 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                                                        п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олучаем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(3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для любой функции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                  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, удовлетворяющей условиям (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1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" name=""/>
              <p:cNvSpPr txBox="1"/>
              <p:nvPr/>
            </p:nvSpPr>
            <p:spPr>
              <a:xfrm>
                <a:off x="3657600" y="2590920"/>
                <a:ext cx="2286000" cy="86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y</m:t>
                        </m:r>
                      </m:e>
                    </m:d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r>
                              <m:t xml:space="preserve">y</m:t>
                            </m:r>
                            <m:r>
                              <m:t xml:space="preserve">,</m:t>
                            </m:r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</m:e>
                        </m:d>
                      </m:e>
                    </m:nary>
                    <m:r>
                      <m:rPr>
                        <m:lit/>
                        <m:nor/>
                      </m:rPr>
                      <m:t xml:space="preserve">d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" name=""/>
              <p:cNvSpPr txBox="1"/>
              <p:nvPr/>
            </p:nvSpPr>
            <p:spPr>
              <a:xfrm>
                <a:off x="1905120" y="5334120"/>
                <a:ext cx="5333760" cy="80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r>
                          <m:t xml:space="preserve">[</m:t>
                        </m:r>
                        <m:sSubSup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y</m:t>
                            </m:r>
                          </m:e>
                        </m:ba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bar>
                          <m:barPr>
                            <m:pos m:val="top"/>
                          </m:barPr>
                          <m:e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</m:e>
                        </m:ba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δy</m:t>
                        </m:r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F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y</m:t>
                            </m:r>
                          </m:e>
                        </m:ba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bar>
                          <m:barPr>
                            <m:pos m:val="top"/>
                          </m:barPr>
                          <m:e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</m:e>
                        </m:ba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δ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]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2743200" y="6172200"/>
                <a:ext cx="1295280" cy="3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y</m:t>
                    </m:r>
                    <m:r>
                      <m:t xml:space="preserve">∈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[</m:t>
                    </m:r>
                    <m:r>
                      <m:t xml:space="preserve">a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1981080" y="4800600"/>
                <a:ext cx="1371600" cy="40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I</m:t>
                    </m:r>
                    <m:d>
                      <m:dPr>
                        <m:begChr m:val="{"/>
                        <m:endChr m:val="}"/>
                      </m:dPr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y</m:t>
                            </m:r>
                          </m:e>
                        </m:bar>
                        <m:r>
                          <m:t xml:space="preserve">;</m:t>
                        </m:r>
                        <m:r>
                          <m:t xml:space="preserve">δy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3733920" y="4648320"/>
                <a:ext cx="3962160" cy="78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I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sSubSup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  <m:sup>
                                <m:r>
                                  <m:t xml:space="preserve">'</m:t>
                                </m:r>
                              </m:sup>
                            </m:sSub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y</m:t>
                                </m:r>
                                <m:r>
                                  <m:t xml:space="preserve">,</m:t>
                                </m:r>
                                <m:sSup>
                                  <m:e>
                                    <m:r>
                                      <m:t xml:space="preserve">y</m:t>
                                    </m:r>
                                  </m:e>
                                  <m:sup>
                                    <m:r>
                                      <m:t xml:space="preserve">'</m:t>
                                    </m:r>
                                  </m:sup>
                                </m:sSup>
                              </m:e>
                            </m:d>
                            <m:r>
                              <m:t xml:space="preserve">δy</m:t>
                            </m:r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y</m:t>
                                    </m:r>
                                  </m:e>
                                  <m:sup>
                                    <m:r>
                                      <m:t xml:space="preserve">'</m:t>
                                    </m:r>
                                  </m:sup>
                                </m:sSup>
                              </m:sub>
                              <m:sup>
                                <m:r>
                                  <m:t xml:space="preserve">'</m:t>
                                </m:r>
                              </m:sup>
                            </m:sSub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y</m:t>
                                </m:r>
                                <m:r>
                                  <m:t xml:space="preserve">,</m:t>
                                </m:r>
                                <m:sSup>
                                  <m:e>
                                    <m:r>
                                      <m:t xml:space="preserve">y</m:t>
                                    </m:r>
                                  </m:e>
                                  <m:sup>
                                    <m:r>
                                      <m:t xml:space="preserve">'</m:t>
                                    </m:r>
                                  </m:sup>
                                </m:sSup>
                              </m:e>
                            </m:d>
                            <m:r>
                              <m:t xml:space="preserve">δ</m:t>
                            </m:r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</m:e>
                        </m:d>
                      </m:e>
                    </m:nary>
                    <m:r>
                      <m:rPr>
                        <m:lit/>
                        <m:nor/>
                      </m:rPr>
                      <m:t xml:space="preserve">dx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" dur="8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" dur="8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120"/>
                            </p:stCondLst>
                            <p:childTnLst>
                              <p:par>
                                <p:cTn id="1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" dur="8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" dur="8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" dur="8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" dur="8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2360"/>
                            </p:stCondLst>
                            <p:childTnLst>
                              <p:par>
                                <p:cTn id="3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" dur="80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" dur="80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" dur="80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" dur="80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" dur="80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" dur="80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160"/>
                            </p:stCondLst>
                            <p:childTnLst>
                              <p:par>
                                <p:cTn id="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" dur="80"/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" dur="80"/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" dur="80"/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2000"/>
                            </p:stCondLst>
                            <p:childTnLst>
                              <p:par>
                                <p:cTn id="4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2500"/>
                            </p:stCondLst>
                            <p:childTnLst>
                              <p:par>
                                <p:cTn id="5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" dur="80"/>
                                        <p:tgtEl>
                                          <p:spTgt spid="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" dur="80"/>
                                        <p:tgtEl>
                                          <p:spTgt spid="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" dur="80"/>
                                        <p:tgtEl>
                                          <p:spTgt spid="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" dur="80"/>
                                        <p:tgtEl>
                                          <p:spTgt spid="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" dur="80"/>
                                        <p:tgtEl>
                                          <p:spTgt spid="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" dur="80"/>
                                        <p:tgtEl>
                                          <p:spTgt spid="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2080"/>
                            </p:stCondLst>
                            <p:childTnLst>
                              <p:par>
                                <p:cTn id="6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" dur="80"/>
                                        <p:tgtEl>
                                          <p:spTgt spid="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" dur="80"/>
                                        <p:tgtEl>
                                          <p:spTgt spid="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" dur="80"/>
                                        <p:tgtEl>
                                          <p:spTgt spid="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4160"/>
                            </p:stCondLst>
                            <p:childTnLst>
                              <p:par>
                                <p:cTn id="7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" dur="80"/>
                                        <p:tgtEl>
                                          <p:spTgt spid="4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" dur="80"/>
                                        <p:tgtEl>
                                          <p:spTgt spid="4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" dur="80"/>
                                        <p:tgtEl>
                                          <p:spTgt spid="4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4880"/>
                            </p:stCondLst>
                            <p:childTnLst>
                              <p:par>
                                <p:cTn id="7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" dur="80"/>
                                        <p:tgtEl>
                                          <p:spTgt spid="4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1" dur="80"/>
                                        <p:tgtEl>
                                          <p:spTgt spid="4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" dur="80"/>
                                        <p:tgtEl>
                                          <p:spTgt spid="4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00"/>
                                        <p:tgtEl>
                                          <p:spTgt spid="4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500"/>
                            </p:stCondLst>
                            <p:childTnLst>
                              <p:par>
                                <p:cTn id="9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000"/>
                            </p:stCondLst>
                            <p:childTnLst>
                              <p:par>
                                <p:cTn id="9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1" dur="80"/>
                                        <p:tgtEl>
                                          <p:spTgt spid="42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2" dur="80"/>
                                        <p:tgtEl>
                                          <p:spTgt spid="42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3" dur="80"/>
                                        <p:tgtEl>
                                          <p:spTgt spid="42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160"/>
                            </p:stCondLst>
                            <p:childTnLst>
                              <p:par>
                                <p:cTn id="1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00"/>
                                        <p:tgtEl>
                                          <p:spTgt spid="42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228600" y="111240"/>
            <a:ext cx="8686800" cy="64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Рассмотрим функционал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зависящий от двух функций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ru-RU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,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ru-RU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, заданных при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Фиксируя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ru-RU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и варьируя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ru-RU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, получаем частную вариацию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Аналогично выражается частная вариация по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ru-RU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Если ставится задача об экстремуме функционала при простейших граничных условиях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ru-RU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y</a:t>
            </a:r>
            <a:r>
              <a:rPr b="0" lang="ru-RU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ru-RU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,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ru-RU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y</a:t>
            </a:r>
            <a:r>
              <a:rPr b="0" lang="ru-RU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ru-RU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b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ru-RU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y</a:t>
            </a:r>
            <a:r>
              <a:rPr b="0" lang="ru-RU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ru-RU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ru-RU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y</a:t>
            </a:r>
            <a:r>
              <a:rPr b="0" lang="ru-RU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ru-RU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То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для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функций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     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,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     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, реализующих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экстремум, 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обе 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частные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вариации должны равняться нулю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800000"/>
                </a:solidFill>
                <a:latin typeface="Times New Roman"/>
              </a:rPr>
              <a:t>С</a:t>
            </a:r>
            <a:r>
              <a:rPr b="0" i="1" lang="ru-RU" sz="2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истем</a:t>
            </a:r>
            <a:r>
              <a:rPr b="0" i="1" lang="ru-RU" sz="2200" spc="-1" strike="noStrike">
                <a:solidFill>
                  <a:srgbClr val="800000"/>
                </a:solidFill>
                <a:latin typeface="Times New Roman"/>
              </a:rPr>
              <a:t>а</a:t>
            </a:r>
            <a:r>
              <a:rPr b="0" i="1" lang="ru-RU" sz="2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уравнений Эйлера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2743200" y="533520"/>
                <a:ext cx="351324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,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7772400" y="1523880"/>
                <a:ext cx="47952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</m:t>
                        </m:r>
                      </m:e>
                      <m:sub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2438280" y="1905120"/>
                <a:ext cx="409572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</m:t>
                        </m:r>
                      </m:e>
                      <m:sub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2362320" y="2895480"/>
                <a:ext cx="421632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</m:t>
                        </m:r>
                      </m:e>
                      <m:sub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b>
                    </m:sSub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2438280" y="4800600"/>
                <a:ext cx="63360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ba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3200400" y="4800600"/>
                <a:ext cx="65088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ba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2666880" y="5867280"/>
                <a:ext cx="174312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F</m:t>
                        </m:r>
                      </m:e>
                      <m:sub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−</m:t>
                    </m:r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den>
                    </m:f>
                    <m:sSubSup>
                      <m:e>
                        <m:r>
                          <m:t xml:space="preserve">F</m:t>
                        </m:r>
                      </m:e>
                      <m:sub>
                        <m:sSubSup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4495680" y="5867280"/>
                <a:ext cx="173052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F</m:t>
                        </m:r>
                      </m:e>
                      <m:sub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−</m:t>
                    </m:r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den>
                    </m:f>
                    <m:sSubSup>
                      <m:e>
                        <m:r>
                          <m:t xml:space="preserve">F</m:t>
                        </m:r>
                      </m:e>
                      <m:sub>
                        <m:sSubSup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0" dur="indefinite" restart="never" nodeType="tmRoot">
          <p:childTnLst>
            <p:seq>
              <p:cTn id="641" dur="indefinite" nodeType="mainSeq">
                <p:childTnLst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6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fill="hold">
                            <p:stCondLst>
                              <p:cond delay="500"/>
                            </p:stCondLst>
                            <p:childTnLst>
                              <p:par>
                                <p:cTn id="6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fill="hold">
                            <p:stCondLst>
                              <p:cond delay="1000"/>
                            </p:stCondLst>
                            <p:childTnLst>
                              <p:par>
                                <p:cTn id="6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4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9" dur="5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fill="hold">
                            <p:stCondLst>
                              <p:cond delay="500"/>
                            </p:stCondLst>
                            <p:childTnLst>
                              <p:par>
                                <p:cTn id="6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1" dur="500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fill="hold">
                            <p:stCondLst>
                              <p:cond delay="500"/>
                            </p:stCondLst>
                            <p:childTnLst>
                              <p:par>
                                <p:cTn id="6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0" dur="500"/>
                                        <p:tgtEl>
                                          <p:spTgt spid="10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fill="hold">
                            <p:stCondLst>
                              <p:cond delay="500"/>
                            </p:stCondLst>
                            <p:childTnLst>
                              <p:par>
                                <p:cTn id="6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4" dur="500"/>
                                        <p:tgtEl>
                                          <p:spTgt spid="10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" fill="hold">
                            <p:stCondLst>
                              <p:cond delay="1000"/>
                            </p:stCondLst>
                            <p:childTnLst>
                              <p:par>
                                <p:cTn id="6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8" dur="500"/>
                                        <p:tgtEl>
                                          <p:spTgt spid="10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9" dur="500"/>
                                        <p:tgtEl>
                                          <p:spTgt spid="10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0" fill="hold">
                            <p:stCondLst>
                              <p:cond delay="500"/>
                            </p:stCondLst>
                            <p:childTnLst>
                              <p:par>
                                <p:cTn id="70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228600" y="914400"/>
            <a:ext cx="8686800" cy="51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Р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ассм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о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три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м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функции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двух независимых переменных, заданных в некоторой области (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)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плоскости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Ф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ункционал имеет вид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В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ариация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 фу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нкционал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а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где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и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– стандартные сокращенные обозначения для 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     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и 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  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  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, а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Граничное условие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 -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значение функции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задано на контуре (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) области (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)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r>
              <a:rPr b="0" i="1" lang="ru-RU" sz="2200" spc="-1" strike="noStrike">
                <a:solidFill>
                  <a:srgbClr val="006600"/>
                </a:solidFill>
                <a:latin typeface="Times New Roman"/>
              </a:rPr>
              <a:t>       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</a:t>
            </a:r>
            <a:r>
              <a:rPr b="0" lang="en-US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200" spc="-1" strike="noStrike" baseline="-30000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ru-RU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(Г)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lang="ru-RU" sz="22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(задано,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)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           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(*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2895480" y="1947960"/>
                <a:ext cx="3240360" cy="7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z</m:t>
                        </m:r>
                      </m:e>
                    </m:d>
                    <m:r>
                      <m:t xml:space="preserve">=</m:t>
                    </m:r>
                    <m:nary>
                      <m:naryPr>
                        <m:chr m:val="∫"/>
                        <m:supHide m:val="1"/>
                      </m:naryPr>
                      <m:sub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)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,</m:t>
                        </m:r>
                        <m:r>
                          <m:t xml:space="preserve">z</m:t>
                        </m:r>
                        <m:r>
                          <m:t xml:space="preserve">,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z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z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y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G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2590920" y="3090960"/>
                <a:ext cx="4010040" cy="53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I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z</m:t>
                        </m:r>
                        <m:r>
                          <m:t xml:space="preserve">;</m:t>
                        </m:r>
                        <m:r>
                          <m:t xml:space="preserve">δz</m:t>
                        </m:r>
                      </m:e>
                    </m:d>
                    <m:r>
                      <m:t xml:space="preserve">=</m:t>
                    </m:r>
                    <m:nary>
                      <m:naryPr>
                        <m:chr m:val="∫"/>
                        <m:supHide m:val="1"/>
                      </m:naryPr>
                      <m:sub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)</m:t>
                        </m:r>
                      </m:sub>
                      <m:sup/>
                      <m:e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δz</m:t>
                        </m:r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δp</m:t>
                        </m:r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δq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G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7010280" y="3471840"/>
                <a:ext cx="34308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z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7772400" y="3471840"/>
                <a:ext cx="360360" cy="7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z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y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2895480" y="4081320"/>
                <a:ext cx="147348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z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∂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4724280" y="4081320"/>
                <a:ext cx="1473480" cy="73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z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y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∂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y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9" name=""/>
          <p:cNvSpPr/>
          <p:nvPr/>
        </p:nvSpPr>
        <p:spPr>
          <a:xfrm>
            <a:off x="605880" y="152280"/>
            <a:ext cx="7956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Функционалы от функций нескольких переменных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7" dur="indefinite" restart="never" nodeType="tmRoot">
          <p:childTnLst>
            <p:seq>
              <p:cTn id="708" dur="indefinite" nodeType="mainSeq">
                <p:childTnLst>
                  <p:par>
                    <p:cTn id="709" fill="hold">
                      <p:stCondLst>
                        <p:cond delay="0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9" dur="8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0" dur="8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1" dur="8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6" dur="8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7" dur="8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8" dur="8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9" fill="hold">
                            <p:stCondLst>
                              <p:cond delay="760"/>
                            </p:stCondLst>
                            <p:childTnLst>
                              <p:par>
                                <p:cTn id="73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7" dur="8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8" dur="8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9" dur="8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0" fill="hold">
                            <p:stCondLst>
                              <p:cond delay="800"/>
                            </p:stCondLst>
                            <p:childTnLst>
                              <p:par>
                                <p:cTn id="7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4" fill="hold">
                            <p:stCondLst>
                              <p:cond delay="1300"/>
                            </p:stCondLst>
                            <p:childTnLst>
                              <p:par>
                                <p:cTn id="7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7" dur="500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4" fill="hold">
                            <p:stCondLst>
                              <p:cond delay="1800"/>
                            </p:stCondLst>
                            <p:childTnLst>
                              <p:par>
                                <p:cTn id="7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65" dur="80"/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66" dur="80"/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7" dur="80"/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8" fill="hold">
                            <p:stCondLst>
                              <p:cond delay="2720"/>
                            </p:stCondLst>
                            <p:childTnLst>
                              <p:par>
                                <p:cTn id="76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71" dur="80"/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72" dur="80"/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3" dur="80"/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228600" y="914400"/>
            <a:ext cx="86868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800000"/>
                </a:solidFill>
                <a:latin typeface="Times New Roman"/>
              </a:rPr>
              <a:t>У</a:t>
            </a:r>
            <a:r>
              <a:rPr b="0" i="1" lang="ru-RU" sz="2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равнение Остроградского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 - у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равнени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е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Эйлера для функционала с функциями двух переменных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Развернутая форма этого уравнения такова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В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ариационная задача сводится к решению этого уравнения при граничном условии (*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3352680" y="1752480"/>
                <a:ext cx="2416320" cy="7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z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−</m:t>
                    </m:r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</m:den>
                    </m:f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p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−</m:t>
                    </m:r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y</m:t>
                        </m:r>
                      </m:den>
                    </m:f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q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066680" y="3276720"/>
                <a:ext cx="6958080" cy="7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p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''</m:t>
                        </m:r>
                      </m:sup>
                    </m:sSubSup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z</m:t>
                        </m:r>
                      </m:num>
                      <m:den>
                        <m:r>
                          <m:t xml:space="preserve">∂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r>
                      <m:t xml:space="preserve">2</m:t>
                    </m:r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q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''</m:t>
                        </m:r>
                      </m:sup>
                    </m:sSubSup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z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  <m:r>
                          <m:t xml:space="preserve">∂</m:t>
                        </m:r>
                        <m:r>
                          <m:t xml:space="preserve">y</m:t>
                        </m:r>
                      </m:den>
                    </m:f>
                    <m:r>
                      <m:t xml:space="preserve">+</m:t>
                    </m:r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qq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''</m:t>
                        </m:r>
                      </m:sup>
                    </m:sSubSup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z</m:t>
                        </m:r>
                      </m:num>
                      <m:den>
                        <m:r>
                          <m:t xml:space="preserve">∂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zp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''</m:t>
                        </m:r>
                      </m:sup>
                    </m:sSubSup>
                    <m:f>
                      <m:num>
                        <m:r>
                          <m:t xml:space="preserve">∂</m:t>
                        </m:r>
                        <m:r>
                          <m:t xml:space="preserve">z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+</m:t>
                    </m:r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zq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''</m:t>
                        </m:r>
                      </m:sup>
                    </m:sSubSup>
                    <m:f>
                      <m:num>
                        <m:r>
                          <m:t xml:space="preserve">∂</m:t>
                        </m:r>
                        <m:r>
                          <m:t xml:space="preserve">z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y</m:t>
                        </m:r>
                      </m:den>
                    </m:f>
                    <m:r>
                      <m:t xml:space="preserve">+</m:t>
                    </m:r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xp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''</m:t>
                        </m:r>
                      </m:sup>
                    </m:sSubSup>
                    <m:r>
                      <m:t xml:space="preserve">+</m:t>
                    </m:r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yq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''</m:t>
                        </m:r>
                      </m:sup>
                    </m:sSubSup>
                    <m:r>
                      <m:t xml:space="preserve">−</m:t>
                    </m:r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z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4" dur="indefinite" restart="never" nodeType="tmRoot">
          <p:childTnLst>
            <p:seq>
              <p:cTn id="775" dur="indefinite" nodeType="mainSeq">
                <p:childTnLst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80" dur="8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81" dur="8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2" dur="8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3" fill="hold">
                            <p:stCondLst>
                              <p:cond delay="3120"/>
                            </p:stCondLst>
                            <p:childTnLst>
                              <p:par>
                                <p:cTn id="78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91" dur="8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92" dur="8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3" dur="8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4" fill="hold">
                            <p:stCondLst>
                              <p:cond delay="1520"/>
                            </p:stCondLst>
                            <p:childTnLst>
                              <p:par>
                                <p:cTn id="79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2" dur="80"/>
                                        <p:tgtEl>
                                          <p:spTgt spid="1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3" dur="80"/>
                                        <p:tgtEl>
                                          <p:spTgt spid="1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4" dur="80"/>
                                        <p:tgtEl>
                                          <p:spTgt spid="1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228600"/>
            <a:ext cx="9144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Задачи с подвижными границами</a:t>
            </a:r>
            <a:r>
              <a:rPr b="0" lang="en-US" sz="26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" y="914400"/>
            <a:ext cx="8686800" cy="49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Г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раничные условия на функцию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,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ru-RU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; b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, на концах отрезка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; b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не зафиксированы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Простейшая задача вариационного исчисления с подвижными границами состоит в определении функции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ru-RU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ru-RU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;b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и точек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                   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,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ru-RU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x</a:t>
            </a:r>
            <a:r>
              <a:rPr b="0" lang="ru-RU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для которых функционал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         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(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10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достигает слабого экстремума при условиях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       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,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         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(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11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(x,y,z)</a:t>
            </a:r>
            <a:r>
              <a:rPr b="0" i="1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-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заданные функции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(х,у,z)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имеет непрерывные частные производные до второго порядка включительно по всем аргументам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304920" y="2349360"/>
                <a:ext cx="142236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∈</m:t>
                    </m:r>
                    <m:r>
                      <m:t xml:space="preserve">[</m:t>
                    </m:r>
                    <m:r>
                      <m:t xml:space="preserve">a</m:t>
                    </m:r>
                    <m:r>
                      <m:t xml:space="preserve">;</m:t>
                    </m:r>
                    <m:r>
                      <m:t xml:space="preserve">b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200400" y="2654280"/>
                <a:ext cx="270828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  <m:r>
                      <m:t xml:space="preserve">[</m:t>
                    </m:r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]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'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2971800" y="3797280"/>
                <a:ext cx="162864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4876920" y="3797280"/>
                <a:ext cx="155880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304920" y="4406760"/>
                <a:ext cx="241596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∈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[</m:t>
                    </m:r>
                    <m:r>
                      <m:t xml:space="preserve">a</m:t>
                    </m:r>
                    <m:r>
                      <m:t xml:space="preserve">;</m:t>
                    </m:r>
                    <m:r>
                      <m:t xml:space="preserve">b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5" dur="indefinite" restart="never" nodeType="tmRoot">
          <p:childTnLst>
            <p:seq>
              <p:cTn id="806" dur="indefinite" nodeType="mainSeq">
                <p:childTnLst>
                  <p:par>
                    <p:cTn id="807" fill="hold">
                      <p:stCondLst>
                        <p:cond delay="0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17" dur="8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18" dur="8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9" dur="8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24" dur="8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25" dur="8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6" dur="8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7" fill="hold">
                            <p:stCondLst>
                              <p:cond delay="4160"/>
                            </p:stCondLst>
                            <p:childTnLst>
                              <p:par>
                                <p:cTn id="8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0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4" fill="hold">
                            <p:stCondLst>
                              <p:cond delay="4660"/>
                            </p:stCondLst>
                            <p:childTnLst>
                              <p:par>
                                <p:cTn id="83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37" dur="8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38" dur="8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9" dur="8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47" dur="80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48" dur="80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9" dur="80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0" fill="hold">
                            <p:stCondLst>
                              <p:cond delay="1520"/>
                            </p:stCondLst>
                            <p:childTnLst>
                              <p:par>
                                <p:cTn id="85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3" dur="500"/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0" fill="hold">
                            <p:stCondLst>
                              <p:cond delay="2020"/>
                            </p:stCondLst>
                            <p:childTnLst>
                              <p:par>
                                <p:cTn id="8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4" fill="hold">
                            <p:stCondLst>
                              <p:cond delay="2520"/>
                            </p:stCondLst>
                            <p:childTnLst>
                              <p:par>
                                <p:cTn id="86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67" dur="80"/>
                                        <p:tgtEl>
                                          <p:spTgt spid="12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68" dur="80"/>
                                        <p:tgtEl>
                                          <p:spTgt spid="12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9" dur="80"/>
                                        <p:tgtEl>
                                          <p:spTgt spid="12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0" fill="hold">
                            <p:stCondLst>
                              <p:cond delay="3520"/>
                            </p:stCondLst>
                            <p:childTnLst>
                              <p:par>
                                <p:cTn id="87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73" dur="80"/>
                                        <p:tgtEl>
                                          <p:spTgt spid="12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74" dur="80"/>
                                        <p:tgtEl>
                                          <p:spTgt spid="12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5" dur="80"/>
                                        <p:tgtEl>
                                          <p:spTgt spid="12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28600" y="317520"/>
            <a:ext cx="8686800" cy="62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800000"/>
                </a:solidFill>
                <a:latin typeface="Times New Roman"/>
              </a:rPr>
              <a:t>Другая формулировка задачи с подвижными границами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Пусть на плоскости заданы гладкие кривые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Требуется найти такую гладкую кривую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=y(x)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которая соединяет какую-либо точку кривой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0" lang="ru-RU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с какой-либо точкой кривой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0" lang="ru-RU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и доставляет слабый экстремум функционалу (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10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Необходимое условие 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Для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того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чтобы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функционал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(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10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)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достигал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на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функции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ru-RU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ru-RU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;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слабого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экстремума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при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условиях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(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11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),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необходимо,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чтобы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эта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функция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удовлетворяла уравнению Эйлера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и </a:t>
            </a:r>
            <a:r>
              <a:rPr b="0" i="1" lang="ru-RU" sz="2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условиям трансверсальности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(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12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2133720" y="1523880"/>
                <a:ext cx="1496880" cy="3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γ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038480" y="1523880"/>
                <a:ext cx="1497240" cy="37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γ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5716440" y="1547640"/>
                <a:ext cx="1011240" cy="3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r>
                      <m:t xml:space="preserve">[</m:t>
                    </m:r>
                    <m:r>
                      <m:t xml:space="preserve">a</m:t>
                    </m:r>
                    <m:r>
                      <m:t xml:space="preserve">;</m:t>
                    </m:r>
                    <m:r>
                      <m:t xml:space="preserve">b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3657600" y="4800600"/>
                <a:ext cx="164448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−</m:t>
                    </m:r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den>
                    </m:f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y</m:t>
                        </m:r>
                        <m:r>
                          <m:t xml:space="preserve">'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3200400" y="5867280"/>
                <a:ext cx="265572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  <m:r>
                      <m:t xml:space="preserve">F</m:t>
                    </m:r>
                    <m:r>
                      <m:t xml:space="preserve">+</m:t>
                    </m:r>
                    <m:r>
                      <m:t xml:space="preserve">(</m:t>
                    </m:r>
                    <m:sSubSup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−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sub>
                    </m:sSub>
                    <m:sSub>
                      <m:e>
                        <m:r>
                          <m:t xml:space="preserve">]</m:t>
                        </m:r>
                      </m:e>
                      <m:sub>
                        <m:r>
                          <m:t xml:space="preserve">x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3200400" y="6195960"/>
                <a:ext cx="262260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  <m:r>
                      <m:t xml:space="preserve">F</m:t>
                    </m:r>
                    <m:r>
                      <m:t xml:space="preserve">+</m:t>
                    </m:r>
                    <m:r>
                      <m:t xml:space="preserve">(</m:t>
                    </m:r>
                    <m:sSubSup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−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sub>
                    </m:sSub>
                    <m:sSub>
                      <m:e>
                        <m:r>
                          <m:t xml:space="preserve">]</m:t>
                        </m:r>
                      </m:e>
                      <m:sub>
                        <m:r>
                          <m:t xml:space="preserve">x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6" dur="indefinite" restart="never" nodeType="tmRoot">
          <p:childTnLst>
            <p:seq>
              <p:cTn id="877" dur="indefinite" nodeType="mainSeq">
                <p:childTnLst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82" dur="8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83" dur="8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4" dur="8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89" dur="8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90" dur="8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1" dur="8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2" fill="hold">
                            <p:stCondLst>
                              <p:cond delay="1440"/>
                            </p:stCondLst>
                            <p:childTnLst>
                              <p:par>
                                <p:cTn id="89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06" dur="80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07" dur="80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8" dur="80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13" dur="80"/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14" dur="80"/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5" dur="80"/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fill="hold">
                      <p:stCondLst>
                        <p:cond delay="indefinite"/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20" dur="80"/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21" dur="80"/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2" dur="80"/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3" fill="hold">
                            <p:stCondLst>
                              <p:cond delay="5720"/>
                            </p:stCondLst>
                            <p:childTnLst>
                              <p:par>
                                <p:cTn id="9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31" dur="80"/>
                                        <p:tgtEl>
                                          <p:spTgt spid="13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32" dur="80"/>
                                        <p:tgtEl>
                                          <p:spTgt spid="13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3" dur="80"/>
                                        <p:tgtEl>
                                          <p:spTgt spid="13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4" fill="hold">
                            <p:stCondLst>
                              <p:cond delay="1080"/>
                            </p:stCondLst>
                            <p:childTnLst>
                              <p:par>
                                <p:cTn id="93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1" fill="hold">
                            <p:stCondLst>
                              <p:cond delay="1580"/>
                            </p:stCondLst>
                            <p:childTnLst>
                              <p:par>
                                <p:cTn id="94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44" dur="80"/>
                                        <p:tgtEl>
                                          <p:spTgt spid="13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45" dur="80"/>
                                        <p:tgtEl>
                                          <p:spTgt spid="13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6" dur="80"/>
                                        <p:tgtEl>
                                          <p:spTgt spid="13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762120"/>
            <a:ext cx="8686800" cy="49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Д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ля определения экстремалей в простейшей задаче с подвижными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границами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необходимо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-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найти общее решение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С</a:t>
            </a:r>
            <a:r>
              <a:rPr b="0" lang="ru-RU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С</a:t>
            </a:r>
            <a:r>
              <a:rPr b="0" lang="ru-RU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уравнения Эйлера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- и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з условия (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12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) и уравнений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 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определить постоянные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0" lang="ru-RU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и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0" lang="ru-RU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, и концы отрезка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;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Если на одном из концов искомой кривой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задано обычное граничное условие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y</a:t>
            </a:r>
            <a:r>
              <a:rPr b="0" lang="ru-RU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i="1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или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y</a:t>
            </a:r>
            <a:r>
              <a:rPr b="0" lang="ru-RU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, то условие трансверсальности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следует записать только для другого конца кривой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2209680" y="3124080"/>
                <a:ext cx="245124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4800600" y="3124080"/>
                <a:ext cx="227808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7" dur="indefinite" restart="never" nodeType="tmRoot">
          <p:childTnLst>
            <p:seq>
              <p:cTn id="948" dur="indefinite" nodeType="mainSeq">
                <p:childTnLst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53" dur="8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54" dur="8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5" dur="8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60" dur="8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61" dur="8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2" dur="8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67" dur="8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68" dur="8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9" dur="8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0" fill="hold">
                            <p:stCondLst>
                              <p:cond delay="1000"/>
                            </p:stCondLst>
                            <p:childTnLst>
                              <p:par>
                                <p:cTn id="97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7" fill="hold">
                            <p:stCondLst>
                              <p:cond delay="1500"/>
                            </p:stCondLst>
                            <p:childTnLst>
                              <p:par>
                                <p:cTn id="97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80" dur="80"/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81" dur="80"/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2" dur="80"/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3" fill="hold">
                      <p:stCondLst>
                        <p:cond delay="indefinite"/>
                      </p:stCondLst>
                      <p:childTnLst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87" dur="80"/>
                                        <p:tgtEl>
                                          <p:spTgt spid="1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88" dur="80"/>
                                        <p:tgtEl>
                                          <p:spTgt spid="1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9" dur="80"/>
                                        <p:tgtEl>
                                          <p:spTgt spid="1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228600" y="914400"/>
            <a:ext cx="868680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1. З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адана абсцисса одного из концов кривой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, например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ru-RU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b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, но граничное условие для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=b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отсутствует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, т.е.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граничная точка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    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, у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)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кривой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может перемещаться по вертикальной прямой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=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В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место второго условия трансверсальности (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12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) следует записать </a:t>
            </a:r>
            <a:r>
              <a:rPr b="0" i="1" lang="ru-RU" sz="2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естественное граничное условие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800000"/>
                </a:solidFill>
                <a:latin typeface="Times New Roman"/>
              </a:rPr>
              <a:t>2. З</a:t>
            </a:r>
            <a:r>
              <a:rPr b="0" lang="ru-RU" sz="2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адача Больца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О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предели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ть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функци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ю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ru-RU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ru-RU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;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, доставляющ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ую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слабый экстремум функционалу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(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13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где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,v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- заданная функция, имеющая непрерывные производные по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и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3962520" y="2895480"/>
                <a:ext cx="114768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  <m:r>
                                  <m:t xml:space="preserve">'</m:t>
                                </m:r>
                              </m:sub>
                            </m:sSub>
                          </m:e>
                        </m:d>
                      </m:e>
                      <m:sub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2286000" y="4572000"/>
                <a:ext cx="442260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  <m:r>
                      <m:t xml:space="preserve">[</m:t>
                    </m:r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]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'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+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3" name=""/>
          <p:cNvSpPr/>
          <p:nvPr/>
        </p:nvSpPr>
        <p:spPr>
          <a:xfrm>
            <a:off x="996840" y="304920"/>
            <a:ext cx="715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Частны</a:t>
            </a:r>
            <a:r>
              <a:rPr b="1" lang="en-US" sz="2400" spc="-1" strike="noStrike">
                <a:solidFill>
                  <a:srgbClr val="800000"/>
                </a:solidFill>
                <a:latin typeface="Times New Roman"/>
              </a:rPr>
              <a:t>е</a:t>
            </a:r>
            <a:r>
              <a:rPr b="1" lang="en-US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случа</a:t>
            </a:r>
            <a:r>
              <a:rPr b="1" lang="en-US" sz="2400" spc="-1" strike="noStrike">
                <a:solidFill>
                  <a:srgbClr val="800000"/>
                </a:solidFill>
                <a:latin typeface="Times New Roman"/>
              </a:rPr>
              <a:t>и</a:t>
            </a:r>
            <a:r>
              <a:rPr b="1" lang="en-US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задач</a:t>
            </a:r>
            <a:r>
              <a:rPr b="1" lang="en-US" sz="2400" spc="-1" strike="noStrike">
                <a:solidFill>
                  <a:srgbClr val="800000"/>
                </a:solidFill>
                <a:latin typeface="Times New Roman"/>
              </a:rPr>
              <a:t>и</a:t>
            </a:r>
            <a:r>
              <a:rPr b="1" lang="en-US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с подвижными границам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0" dur="indefinite" restart="never" nodeType="tmRoot">
          <p:childTnLst>
            <p:seq>
              <p:cTn id="991" dur="indefinite" nodeType="mainSeq">
                <p:childTnLst>
                  <p:par>
                    <p:cTn id="992" fill="hold">
                      <p:stCondLst>
                        <p:cond delay="0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96" dur="8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97" dur="8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8" dur="8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03" dur="8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04" dur="8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5" dur="8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10" dur="8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11" dur="8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2" dur="8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3" fill="hold">
                            <p:stCondLst>
                              <p:cond delay="3400"/>
                            </p:stCondLst>
                            <p:childTnLst>
                              <p:par>
                                <p:cTn id="101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fill="hold">
                      <p:stCondLst>
                        <p:cond delay="indefinite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21" dur="80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22" dur="80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3" dur="80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28" dur="80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29" dur="80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30" dur="80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1" fill="hold">
                            <p:stCondLst>
                              <p:cond delay="2760"/>
                            </p:stCondLst>
                            <p:childTnLst>
                              <p:par>
                                <p:cTn id="10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5" fill="hold">
                            <p:stCondLst>
                              <p:cond delay="3260"/>
                            </p:stCondLst>
                            <p:childTnLst>
                              <p:par>
                                <p:cTn id="103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38" dur="80"/>
                                        <p:tgtEl>
                                          <p:spTgt spid="1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39" dur="80"/>
                                        <p:tgtEl>
                                          <p:spTgt spid="1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0" dur="80"/>
                                        <p:tgtEl>
                                          <p:spTgt spid="1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1" fill="hold">
                            <p:stCondLst>
                              <p:cond delay="3460"/>
                            </p:stCondLst>
                            <p:childTnLst>
                              <p:par>
                                <p:cTn id="104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44" dur="80"/>
                                        <p:tgtEl>
                                          <p:spTgt spid="14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45" dur="80"/>
                                        <p:tgtEl>
                                          <p:spTgt spid="14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6" dur="80"/>
                                        <p:tgtEl>
                                          <p:spTgt spid="14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228600" y="609480"/>
            <a:ext cx="8686800" cy="554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Необходимое условие 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Для того чтобы функционал (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13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) достигал на функции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ru-RU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ru-RU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;b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слабого экстремума, необходимо, чтобы эта функция удовлетворяла уравнению Эйлера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и условиям трансверсальности для задачи Больца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        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,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                               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         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(1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4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Условия (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14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) используются для определения постоянных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ru-RU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и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0" lang="ru-RU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из общего решения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, С</a:t>
            </a:r>
            <a:r>
              <a:rPr b="0" lang="ru-RU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С</a:t>
            </a:r>
            <a:r>
              <a:rPr b="0" lang="ru-RU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уравнения Эйлера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3733920" y="2438280"/>
                <a:ext cx="164448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−</m:t>
                    </m:r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den>
                    </m:f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y</m:t>
                        </m:r>
                        <m:r>
                          <m:t xml:space="preserve">'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2438280" y="3962520"/>
                <a:ext cx="2159280" cy="80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  <m:r>
                                  <m:t xml:space="preserve">'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∂</m:t>
                                </m:r>
                                <m:r>
                                  <m:t xml:space="preserve">f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y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a</m:t>
                                </m:r>
                                <m:r>
                                  <m:t xml:space="preserve">)</m:t>
                                </m:r>
                              </m:den>
                            </m:f>
                          </m:e>
                        </m:d>
                      </m:e>
                      <m:sub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952880" y="3962520"/>
                <a:ext cx="2143080" cy="80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  <m:r>
                                  <m:t xml:space="preserve">'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∂</m:t>
                                </m:r>
                                <m:r>
                                  <m:t xml:space="preserve">f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y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b</m:t>
                                </m:r>
                                <m:r>
                                  <m:t xml:space="preserve">)</m:t>
                                </m:r>
                              </m:den>
                            </m:f>
                          </m:e>
                        </m:d>
                      </m:e>
                      <m:sub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7" dur="indefinite" restart="never" nodeType="tmRoot">
          <p:childTnLst>
            <p:seq>
              <p:cTn id="1048" dur="indefinite" nodeType="mainSeq">
                <p:childTnLst>
                  <p:par>
                    <p:cTn id="1049" fill="hold">
                      <p:stCondLst>
                        <p:cond delay="indefinite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53" dur="8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54" dur="8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5" dur="8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60" dur="8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61" dur="8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2" dur="8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3" fill="hold">
                            <p:stCondLst>
                              <p:cond delay="5120"/>
                            </p:stCondLst>
                            <p:childTnLst>
                              <p:par>
                                <p:cTn id="106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71" dur="80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72" dur="80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3" dur="80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4" fill="hold">
                            <p:stCondLst>
                              <p:cond delay="1680"/>
                            </p:stCondLst>
                            <p:childTnLst>
                              <p:par>
                                <p:cTn id="10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3" dur="500"/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4" fill="hold">
                      <p:stCondLst>
                        <p:cond delay="indefinite"/>
                      </p:stCondLst>
                      <p:childTnLst>
                        <p:par>
                          <p:cTn id="1085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88" dur="80"/>
                                        <p:tgtEl>
                                          <p:spTgt spid="1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89" dur="80"/>
                                        <p:tgtEl>
                                          <p:spTgt spid="1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90" dur="80"/>
                                        <p:tgtEl>
                                          <p:spTgt spid="1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0" y="0"/>
            <a:ext cx="9144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Задачи на условный экстремум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380880"/>
            <a:ext cx="8686800" cy="64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800000"/>
                </a:solidFill>
                <a:latin typeface="Times New Roman"/>
              </a:rPr>
              <a:t>З</a:t>
            </a:r>
            <a:r>
              <a:rPr b="0" i="1" lang="ru-RU" sz="2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адачи на условный экстремум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– з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адачи вариационного исчисления, в которых на искомые функции накладываются, помимо граничных условий, дополнительные ограничения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800000"/>
                </a:solidFill>
                <a:latin typeface="Times New Roman"/>
              </a:rPr>
              <a:t>Задача Лагранжа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Найти э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кстремум функционала, зависящего от нескольких функций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         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(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15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с граничными условиями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               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, 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               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, 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               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         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(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16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при дополнительных ограничениях, заданных уравнениями с граничными условиями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r>
              <a:rPr b="0" i="1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,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1, …,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,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&lt;n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         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(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17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800000"/>
                </a:solidFill>
                <a:latin typeface="Times New Roman"/>
              </a:rPr>
              <a:t>Ф</a:t>
            </a:r>
            <a:r>
              <a:rPr b="0" i="1" lang="ru-RU" sz="2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ункци</a:t>
            </a:r>
            <a:r>
              <a:rPr b="0" i="1" lang="ru-RU" sz="2200" spc="-1" strike="noStrike">
                <a:solidFill>
                  <a:srgbClr val="800000"/>
                </a:solidFill>
                <a:latin typeface="Times New Roman"/>
              </a:rPr>
              <a:t>я</a:t>
            </a:r>
            <a:r>
              <a:rPr b="0" i="1" lang="ru-RU" sz="2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Лагранжа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рассматриваемой задачи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где  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                        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– произвольные функции (</a:t>
            </a:r>
            <a:r>
              <a:rPr b="0" i="1" lang="ru-RU" sz="2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множители Лагранжа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1447920" y="2286000"/>
                <a:ext cx="634212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  <m:r>
                      <m:t xml:space="preserve">[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]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2971800" y="3505320"/>
            <a:ext cx="1268280" cy="3776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4419720" y="3505320"/>
                <a:ext cx="123336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sSubSup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5848200" y="3524400"/>
                <a:ext cx="1079640" cy="3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1981080" y="4876920"/>
                <a:ext cx="291312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,</m:t>
                    </m:r>
                    <m:sSubSup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Sup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n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533520" y="5943600"/>
                <a:ext cx="5005440" cy="32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,</m:t>
                    </m:r>
                    <m:sSubSup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Sup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n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,</m:t>
                    </m:r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,</m:t>
                    </m:r>
                    <m:sSubSup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Sup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n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)</m:t>
                    </m:r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5486400" y="5791320"/>
                <a:ext cx="265284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Sup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990720" y="6400800"/>
                <a:ext cx="1523880" cy="33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∈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[</m:t>
                    </m:r>
                    <m:r>
                      <m:t xml:space="preserve">a</m:t>
                    </m:r>
                    <m:r>
                      <m:t xml:space="preserve">;</m:t>
                    </m:r>
                    <m:r>
                      <m:t xml:space="preserve">b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1" dur="indefinite" restart="never" nodeType="tmRoot">
          <p:childTnLst>
            <p:seq>
              <p:cTn id="1092" dur="indefinite" nodeType="mainSeq">
                <p:childTnLst>
                  <p:par>
                    <p:cTn id="1093" fill="hold">
                      <p:stCondLst>
                        <p:cond delay="0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7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8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03" dur="8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04" dur="8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5" dur="8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6" fill="hold">
                      <p:stCondLst>
                        <p:cond delay="indefinite"/>
                      </p:stCondLst>
                      <p:childTnLst>
                        <p:par>
                          <p:cTn id="1107" fill="hold">
                            <p:stCondLst>
                              <p:cond delay="0"/>
                            </p:stCondLst>
                            <p:childTnLst>
                              <p:par>
                                <p:cTn id="110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10" dur="8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11" dur="8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2" dur="8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3" fill="hold">
                      <p:stCondLst>
                        <p:cond delay="indefinite"/>
                      </p:stCondLst>
                      <p:childTnLst>
                        <p:par>
                          <p:cTn id="1114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17" dur="8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18" dur="8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9" dur="8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0" fill="hold">
                            <p:stCondLst>
                              <p:cond delay="2240"/>
                            </p:stCondLst>
                            <p:childTnLst>
                              <p:par>
                                <p:cTn id="112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4" fill="hold">
                            <p:stCondLst>
                              <p:cond delay="2740"/>
                            </p:stCondLst>
                            <p:childTnLst>
                              <p:par>
                                <p:cTn id="11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27" dur="80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28" dur="80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9" dur="80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34" dur="80"/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35" dur="80"/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6" dur="80"/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7" fill="hold">
                            <p:stCondLst>
                              <p:cond delay="840"/>
                            </p:stCondLst>
                            <p:childTnLst>
                              <p:par>
                                <p:cTn id="11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9" dur="500"/>
                                        <p:tgtEl>
                                          <p:spTgt spid="1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54" dur="80"/>
                                        <p:tgtEl>
                                          <p:spTgt spid="1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55" dur="80"/>
                                        <p:tgtEl>
                                          <p:spTgt spid="1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56" dur="80"/>
                                        <p:tgtEl>
                                          <p:spTgt spid="1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7" fill="hold">
                            <p:stCondLst>
                              <p:cond delay="2800"/>
                            </p:stCondLst>
                            <p:childTnLst>
                              <p:par>
                                <p:cTn id="115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0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3" dur="500"/>
                                        <p:tgtEl>
                                          <p:spTgt spid="14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4" fill="hold">
                      <p:stCondLst>
                        <p:cond delay="indefinite"/>
                      </p:stCondLst>
                      <p:childTnLst>
                        <p:par>
                          <p:cTn id="1165" fill="hold">
                            <p:stCondLst>
                              <p:cond delay="0"/>
                            </p:stCondLst>
                            <p:childTnLst>
                              <p:par>
                                <p:cTn id="116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68" dur="80"/>
                                        <p:tgtEl>
                                          <p:spTgt spid="14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69" dur="80"/>
                                        <p:tgtEl>
                                          <p:spTgt spid="14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0" dur="80"/>
                                        <p:tgtEl>
                                          <p:spTgt spid="14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480"/>
                            </p:stCondLst>
                            <p:childTnLst>
                              <p:par>
                                <p:cTn id="117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8" fill="hold">
                            <p:stCondLst>
                              <p:cond delay="1980"/>
                            </p:stCondLst>
                            <p:childTnLst>
                              <p:par>
                                <p:cTn id="117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1" dur="500"/>
                                        <p:tgtEl>
                                          <p:spTgt spid="149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228600" y="228600"/>
            <a:ext cx="8686800" cy="64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Необходимое условие 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Если функции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ru-RU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...,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</a:t>
            </a:r>
            <a:r>
              <a:rPr b="0" i="1" lang="ru-RU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доставляют слабый экстремум функционалу (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15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) при условиях (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17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), то существуют множители Лагранжа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,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=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, …,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при которых эти функции удовлетворяют системе уравнений Эйлера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           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, …,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         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(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18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)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записанных для функционала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С помощью необходимого условия 6 решение задачи об условном экстремуме функционала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ru-RU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...,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</a:t>
            </a:r>
            <a:r>
              <a:rPr b="0" i="1" lang="ru-RU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сводится к исследованию экстремума функционала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ru-RU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..,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</a:t>
            </a:r>
            <a:r>
              <a:rPr b="0" i="1" lang="ru-RU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без дополнительных условий (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17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При использовании необходимого условия 6 для решения задачи Лагранжа искомые функции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i="1" lang="ru-RU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k=1,..., n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, и множители Лагранжа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6600"/>
                </a:solidFill>
                <a:latin typeface="Times New Roman"/>
              </a:rPr>
              <a:t>        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=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, …,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определяются из системы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+m</a:t>
            </a:r>
            <a:r>
              <a:rPr b="0" i="1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уравнений (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18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) и (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17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3429000" y="1647720"/>
                <a:ext cx="61740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3189240" y="2486160"/>
                <a:ext cx="167976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sub>
                    </m:sSub>
                    <m:r>
                      <m:t xml:space="preserve">−</m:t>
                    </m:r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den>
                    </m:f>
                    <m:sSub>
                      <m:e>
                        <m:r>
                          <m:t xml:space="preserve">L</m:t>
                        </m:r>
                      </m:e>
                      <m:sub>
                        <m:sSubSup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3429000" y="3505320"/>
                <a:ext cx="212580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>Ldx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314280" y="6029280"/>
                <a:ext cx="61776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5" dur="indefinite" restart="never" nodeType="tmRoot">
          <p:childTnLst>
            <p:seq>
              <p:cTn id="1186" dur="indefinite" nodeType="mainSeq">
                <p:childTnLst>
                  <p:par>
                    <p:cTn id="1187" fill="hold">
                      <p:stCondLst>
                        <p:cond delay="indefinite"/>
                      </p:stCondLst>
                      <p:childTnLst>
                        <p:par>
                          <p:cTn id="1188" fill="hold">
                            <p:stCondLst>
                              <p:cond delay="0"/>
                            </p:stCondLst>
                            <p:childTnLst>
                              <p:par>
                                <p:cTn id="118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91" dur="8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92" dur="8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3" dur="8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4" fill="hold">
                      <p:stCondLst>
                        <p:cond delay="indefinite"/>
                      </p:stCondLst>
                      <p:childTnLst>
                        <p:par>
                          <p:cTn id="1195" fill="hold">
                            <p:stCondLst>
                              <p:cond delay="0"/>
                            </p:stCondLst>
                            <p:childTnLst>
                              <p:par>
                                <p:cTn id="119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98" dur="8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99" dur="8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0" dur="8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4480"/>
                            </p:stCondLst>
                            <p:childTnLst>
                              <p:par>
                                <p:cTn id="120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7" dur="5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8" fill="hold">
                      <p:stCondLst>
                        <p:cond delay="indefinite"/>
                      </p:stCondLst>
                      <p:childTnLst>
                        <p:par>
                          <p:cTn id="1209" fill="hold">
                            <p:stCondLst>
                              <p:cond delay="0"/>
                            </p:stCondLst>
                            <p:childTnLst>
                              <p:par>
                                <p:cTn id="12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12" dur="80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13" dur="80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4" dur="80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5" fill="hold">
                            <p:stCondLst>
                              <p:cond delay="2240"/>
                            </p:stCondLst>
                            <p:childTnLst>
                              <p:par>
                                <p:cTn id="12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1" dur="500"/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2" fill="hold">
                      <p:stCondLst>
                        <p:cond delay="indefinite"/>
                      </p:stCondLst>
                      <p:childTnLst>
                        <p:par>
                          <p:cTn id="1223" fill="hold">
                            <p:stCondLst>
                              <p:cond delay="0"/>
                            </p:stCondLst>
                            <p:childTnLst>
                              <p:par>
                                <p:cTn id="12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26" dur="80"/>
                                        <p:tgtEl>
                                          <p:spTgt spid="1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27" dur="80"/>
                                        <p:tgtEl>
                                          <p:spTgt spid="1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8" dur="80"/>
                                        <p:tgtEl>
                                          <p:spTgt spid="1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3" fill="hold">
                      <p:stCondLst>
                        <p:cond delay="indefinite"/>
                      </p:stCondLst>
                      <p:childTnLst>
                        <p:par>
                          <p:cTn id="1234" fill="hold">
                            <p:stCondLst>
                              <p:cond delay="0"/>
                            </p:stCondLst>
                            <p:childTnLst>
                              <p:par>
                                <p:cTn id="123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37" dur="80"/>
                                        <p:tgtEl>
                                          <p:spTgt spid="15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38" dur="80"/>
                                        <p:tgtEl>
                                          <p:spTgt spid="15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9" dur="80"/>
                                        <p:tgtEl>
                                          <p:spTgt spid="15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0" fill="hold">
                      <p:stCondLst>
                        <p:cond delay="indefinite"/>
                      </p:stCondLst>
                      <p:childTnLst>
                        <p:par>
                          <p:cTn id="1241" fill="hold">
                            <p:stCondLst>
                              <p:cond delay="0"/>
                            </p:stCondLst>
                            <p:childTnLst>
                              <p:par>
                                <p:cTn id="12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4" dur="500"/>
                                        <p:tgtEl>
                                          <p:spTgt spid="15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5" fill="hold">
                            <p:stCondLst>
                              <p:cond delay="500"/>
                            </p:stCondLst>
                            <p:childTnLst>
                              <p:par>
                                <p:cTn id="12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8" dur="500"/>
                                        <p:tgtEl>
                                          <p:spTgt spid="15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1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52280" y="228600"/>
            <a:ext cx="8839440" cy="59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П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роинтегрируем второй член (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3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) по частям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Подставив полученный результат в (3), получаем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где под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 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понимается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полная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производная,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составленная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с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учётом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зависимости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и  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 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от</a:t>
            </a:r>
            <a:r>
              <a:rPr b="0" i="1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Р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аскры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в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выражение полной производной по формуле производной сложной функции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, получим </a:t>
            </a:r>
            <a:r>
              <a:rPr b="0" lang="ru-RU" sz="2200" spc="-1" strike="noStrike">
                <a:solidFill>
                  <a:srgbClr val="800000"/>
                </a:solidFill>
                <a:latin typeface="Times New Roman"/>
              </a:rPr>
              <a:t>уравнение Эйлера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                                                                                                                   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(4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" name=""/>
              <p:cNvSpPr txBox="1"/>
              <p:nvPr/>
            </p:nvSpPr>
            <p:spPr>
              <a:xfrm>
                <a:off x="457200" y="762120"/>
                <a:ext cx="2714760" cy="61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sSubSup>
                          <m:e>
                            <m:r>
                              <m:t xml:space="preserve">F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y</m:t>
                            </m:r>
                          </m:e>
                        </m:ba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bar>
                          <m:barPr>
                            <m:pos m:val="top"/>
                          </m:barPr>
                          <m:e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</m:e>
                        </m:ba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δ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=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" name=""/>
              <p:cNvSpPr txBox="1"/>
              <p:nvPr/>
            </p:nvSpPr>
            <p:spPr>
              <a:xfrm>
                <a:off x="457200" y="1295280"/>
                <a:ext cx="8381880" cy="80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[</m:t>
                    </m:r>
                    <m:sSubSup>
                      <m:e>
                        <m:r>
                          <m:t xml:space="preserve">F</m:t>
                        </m:r>
                      </m:e>
                      <m:sub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y</m:t>
                        </m:r>
                      </m:e>
                    </m:ba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,</m:t>
                    </m:r>
                    <m:bar>
                      <m:barPr>
                        <m:pos m:val="top"/>
                      </m:barPr>
                      <m:e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e>
                    </m:ba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)</m:t>
                    </m:r>
                    <m:r>
                      <m:t xml:space="preserve">δy</m:t>
                    </m:r>
                    <m:sSubSup>
                      <m:e>
                        <m:r>
                          <m:t xml:space="preserve">]</m:t>
                        </m:r>
                      </m:e>
                      <m:sub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</m:sub>
                      <m:sup>
                        <m:r>
                          <m:t xml:space="preserve">b</m:t>
                        </m:r>
                      </m:sup>
                    </m:sSubSup>
                    <m:r>
                      <m:t xml:space="preserve">−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r>
                          <m:t xml:space="preserve">[</m:t>
                        </m:r>
                        <m:sSubSup>
                          <m:e>
                            <m:r>
                              <m:t xml:space="preserve">F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y</m:t>
                            </m:r>
                          </m:e>
                        </m:ba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bar>
                          <m:barPr>
                            <m:pos m:val="top"/>
                          </m:barPr>
                          <m:e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</m:e>
                        </m:ba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]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δ</m:t>
                        </m:r>
                        <m:r>
                          <m:rPr>
                            <m:lit/>
                            <m:nor/>
                          </m:rPr>
                          <m:t xml:space="preserve">ydx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t xml:space="preserve">b</m:t>
                            </m:r>
                          </m:sup>
                          <m:e>
                            <m:r>
                              <m:t xml:space="preserve">[</m:t>
                            </m:r>
                            <m:sSubSup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y</m:t>
                                    </m:r>
                                  </m:e>
                                  <m:sup>
                                    <m:r>
                                      <m:t xml:space="preserve">'</m:t>
                                    </m:r>
                                  </m:sup>
                                </m:sSup>
                              </m:sub>
                              <m:sup>
                                <m:r>
                                  <m:t xml:space="preserve">'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y</m:t>
                                </m:r>
                              </m:e>
                            </m:ba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t xml:space="preserve">,</m:t>
                            </m:r>
                            <m:bar>
                              <m:barPr>
                                <m:pos m:val="top"/>
                              </m:barPr>
                              <m:e>
                                <m:sSup>
                                  <m:e>
                                    <m:r>
                                      <m:t xml:space="preserve">y</m:t>
                                    </m:r>
                                  </m:e>
                                  <m:sup>
                                    <m:r>
                                      <m:t xml:space="preserve">'</m:t>
                                    </m:r>
                                  </m:sup>
                                </m:sSup>
                              </m:e>
                            </m:ba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t xml:space="preserve">)</m:t>
                            </m:r>
                            <m:r>
                              <m:t xml:space="preserve">]</m:t>
                            </m:r>
                            <m:r>
                              <m:t xml:space="preserve">δ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ydx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1600200" y="2743200"/>
                <a:ext cx="5486400" cy="80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sSubSup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  <m:sup>
                                <m:r>
                                  <m:t xml:space="preserve">'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y</m:t>
                                </m:r>
                              </m:e>
                            </m:ba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t xml:space="preserve">,</m:t>
                            </m:r>
                            <m:bar>
                              <m:barPr>
                                <m:pos m:val="top"/>
                              </m:barPr>
                              <m:e>
                                <m:sSup>
                                  <m:e>
                                    <m:r>
                                      <m:t xml:space="preserve">y</m:t>
                                    </m:r>
                                  </m:e>
                                  <m:sup>
                                    <m:r>
                                      <m:t xml:space="preserve">'</m:t>
                                    </m:r>
                                  </m:sup>
                                </m:sSup>
                              </m:e>
                            </m:ba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r>
                              <m:t xml:space="preserve">[</m:t>
                            </m:r>
                            <m:sSubSup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y</m:t>
                                    </m:r>
                                  </m:e>
                                  <m:sup>
                                    <m:r>
                                      <m:t xml:space="preserve">'</m:t>
                                    </m:r>
                                  </m:sup>
                                </m:sSup>
                              </m:sub>
                              <m:sup>
                                <m:r>
                                  <m:t xml:space="preserve">'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y</m:t>
                                </m:r>
                              </m:e>
                            </m:ba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t xml:space="preserve">,</m:t>
                            </m:r>
                            <m:bar>
                              <m:barPr>
                                <m:pos m:val="top"/>
                              </m:barPr>
                              <m:e>
                                <m:sSup>
                                  <m:e>
                                    <m:r>
                                      <m:t xml:space="preserve">y</m:t>
                                    </m:r>
                                  </m:e>
                                  <m:sup>
                                    <m:r>
                                      <m:t xml:space="preserve">'</m:t>
                                    </m:r>
                                  </m:sup>
                                </m:sSup>
                              </m:e>
                            </m:ba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t xml:space="preserve">)</m:t>
                            </m:r>
                            <m:sSup>
                              <m:e>
                                <m:r>
                                  <m:t xml:space="preserve">]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</m:e>
                        </m:d>
                        <m:r>
                          <m:t xml:space="preserve">δ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nary>
                    <m:r>
                      <m:t xml:space="preserve"> </m:t>
                    </m:r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3124080" y="3429000"/>
                <a:ext cx="1965600" cy="66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 </m:t>
                    </m:r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y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−</m:t>
                    </m:r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den>
                    </m:f>
                    <m:sSubSup>
                      <m:e>
                        <m:r>
                          <m:t xml:space="preserve">F</m:t>
                        </m:r>
                      </m:e>
                      <m:sub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1295280" y="4038480"/>
                <a:ext cx="32400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2209680" y="4648320"/>
                <a:ext cx="236520" cy="30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1219320" y="5867280"/>
                <a:ext cx="6324480" cy="37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y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,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−</m:t>
                    </m:r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x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sub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b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,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−</m:t>
                    </m:r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y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sub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b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,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)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−</m:t>
                    </m:r>
                    <m:sSubSup>
                      <m:e>
                        <m:r>
                          <m:t xml:space="preserve">F</m:t>
                        </m:r>
                      </m:e>
                      <m:sub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sub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b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,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)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7" dur="8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8" dur="8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" dur="8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440"/>
                            </p:stCondLst>
                            <p:childTnLst>
                              <p:par>
                                <p:cTn id="12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940"/>
                            </p:stCondLst>
                            <p:childTnLst>
                              <p:par>
                                <p:cTn id="12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2" dur="80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3" dur="80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4" dur="80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1680"/>
                            </p:stCondLst>
                            <p:childTnLst>
                              <p:par>
                                <p:cTn id="13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2180"/>
                            </p:stCondLst>
                            <p:childTnLst>
                              <p:par>
                                <p:cTn id="1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680"/>
                            </p:stCondLst>
                            <p:childTnLst>
                              <p:par>
                                <p:cTn id="1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" dur="500"/>
                                        <p:tgtEl>
                                          <p:spTgt spid="4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7" dur="80"/>
                                        <p:tgtEl>
                                          <p:spTgt spid="4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8" dur="80"/>
                                        <p:tgtEl>
                                          <p:spTgt spid="4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9" dur="80"/>
                                        <p:tgtEl>
                                          <p:spTgt spid="4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3640"/>
                            </p:stCondLst>
                            <p:childTnLst>
                              <p:par>
                                <p:cTn id="1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4140"/>
                            </p:stCondLst>
                            <p:childTnLst>
                              <p:par>
                                <p:cTn id="16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7" dur="80"/>
                                        <p:tgtEl>
                                          <p:spTgt spid="4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8" dur="80"/>
                                        <p:tgtEl>
                                          <p:spTgt spid="4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9" dur="80"/>
                                        <p:tgtEl>
                                          <p:spTgt spid="4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228600" y="152280"/>
            <a:ext cx="8686800" cy="630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800000"/>
                </a:solidFill>
                <a:latin typeface="Times New Roman"/>
              </a:rPr>
              <a:t>И</a:t>
            </a:r>
            <a:r>
              <a:rPr b="0" i="1" lang="ru-RU" sz="2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зопериметрическ</a:t>
            </a:r>
            <a:r>
              <a:rPr b="0" i="1" lang="ru-RU" sz="2200" spc="-1" strike="noStrike">
                <a:solidFill>
                  <a:srgbClr val="800000"/>
                </a:solidFill>
                <a:latin typeface="Times New Roman"/>
              </a:rPr>
              <a:t>ая</a:t>
            </a:r>
            <a:r>
              <a:rPr b="0" i="1" lang="ru-RU" sz="2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задач</a:t>
            </a:r>
            <a:r>
              <a:rPr b="0" i="1" lang="ru-RU" sz="2200" spc="-1" strike="noStrike">
                <a:solidFill>
                  <a:srgbClr val="800000"/>
                </a:solidFill>
                <a:latin typeface="Times New Roman"/>
              </a:rPr>
              <a:t>а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– з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адача на условный экстремум функционала (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15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) с граничными условиями (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16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) при дополнительных условиях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(</a:t>
            </a:r>
            <a:r>
              <a:rPr b="0" i="1" lang="ru-RU" sz="2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интегральны</a:t>
            </a:r>
            <a:r>
              <a:rPr b="0" i="1" lang="ru-RU" sz="2200" spc="-1" strike="noStrike">
                <a:solidFill>
                  <a:srgbClr val="800000"/>
                </a:solidFill>
                <a:latin typeface="Times New Roman"/>
              </a:rPr>
              <a:t>х</a:t>
            </a:r>
            <a:r>
              <a:rPr b="0" i="1" lang="ru-RU" sz="2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связ</a:t>
            </a:r>
            <a:r>
              <a:rPr b="0" i="1" lang="ru-RU" sz="2200" spc="-1" strike="noStrike">
                <a:solidFill>
                  <a:srgbClr val="800000"/>
                </a:solidFill>
                <a:latin typeface="Times New Roman"/>
              </a:rPr>
              <a:t>ях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)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   </a:t>
            </a:r>
            <a:r>
              <a:rPr b="0" i="1" lang="ru-RU" sz="2200" spc="-1" strike="noStrike">
                <a:solidFill>
                  <a:srgbClr val="006600"/>
                </a:solidFill>
                <a:latin typeface="Times New Roman"/>
              </a:rPr>
              <a:t>     </a:t>
            </a:r>
            <a:r>
              <a:rPr b="0" i="1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,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1, …,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            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(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19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)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Функция Лагранжа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данной задачи имеет вид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где множителями Лагранжа 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 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,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=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.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, являются произвольные </a:t>
            </a:r>
            <a:r>
              <a:rPr b="0" i="1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вещественные числа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При решении изопериметрической задачи используется необходимое условие экстремума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 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2057400" y="1371600"/>
                <a:ext cx="344484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)</m:t>
                        </m:r>
                      </m:e>
                    </m:nary>
                    <m:r>
                      <m:rPr>
                        <m:lit/>
                        <m:nor/>
                      </m:rPr>
                      <m:t xml:space="preserve">dx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1600200" y="3200400"/>
                <a:ext cx="60642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L</m:t>
                        </m:r>
                      </m:e>
                    </m:ba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,</m:t>
                    </m:r>
                    <m:sSubSup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Sup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n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,</m:t>
                    </m:r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dx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,</m:t>
                    </m:r>
                    <m:sSubSup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Sup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n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)</m:t>
                    </m:r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2971800" y="3809880"/>
                <a:ext cx="3151080" cy="73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3998880" y="4896000"/>
                <a:ext cx="25704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2" dur="indefinite" restart="never" nodeType="tmRoot">
          <p:childTnLst>
            <p:seq>
              <p:cTn id="1253" dur="indefinite" nodeType="mainSeq">
                <p:childTnLst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58" dur="8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59" dur="8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60" dur="8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1" fill="hold">
                            <p:stCondLst>
                              <p:cond delay="5400"/>
                            </p:stCondLst>
                            <p:childTnLst>
                              <p:par>
                                <p:cTn id="12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4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7" dur="5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8" fill="hold">
                      <p:stCondLst>
                        <p:cond delay="indefinite"/>
                      </p:stCondLst>
                      <p:childTnLst>
                        <p:par>
                          <p:cTn id="1269" fill="hold">
                            <p:stCondLst>
                              <p:cond delay="0"/>
                            </p:stCondLst>
                            <p:childTnLst>
                              <p:par>
                                <p:cTn id="127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72" dur="80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73" dur="80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74" dur="80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5" fill="hold">
                            <p:stCondLst>
                              <p:cond delay="1440"/>
                            </p:stCondLst>
                            <p:childTnLst>
                              <p:par>
                                <p:cTn id="12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9" fill="hold">
                            <p:stCondLst>
                              <p:cond delay="1940"/>
                            </p:stCondLst>
                            <p:childTnLst>
                              <p:par>
                                <p:cTn id="12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3" fill="hold">
                            <p:stCondLst>
                              <p:cond delay="2440"/>
                            </p:stCondLst>
                            <p:childTnLst>
                              <p:par>
                                <p:cTn id="12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6" dur="500"/>
                                        <p:tgtEl>
                                          <p:spTgt spid="16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0" fill="hold">
                      <p:stCondLst>
                        <p:cond delay="indefinite"/>
                      </p:stCondLst>
                      <p:childTnLst>
                        <p:par>
                          <p:cTn id="1291" fill="hold">
                            <p:stCondLst>
                              <p:cond delay="0"/>
                            </p:stCondLst>
                            <p:childTnLst>
                              <p:par>
                                <p:cTn id="129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94" dur="80"/>
                                        <p:tgtEl>
                                          <p:spTgt spid="16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95" dur="80"/>
                                        <p:tgtEl>
                                          <p:spTgt spid="16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96" dur="80"/>
                                        <p:tgtEl>
                                          <p:spTgt spid="16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228600" y="762120"/>
            <a:ext cx="8610480" cy="51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Необходимое условие 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Если функции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ru-RU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.., у</a:t>
            </a:r>
            <a:r>
              <a:rPr b="0" i="1" lang="ru-RU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доставляют слабый экстремум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функционалу (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15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) при условиях (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16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), (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19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), то существуют числа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(множители Лагранжа), при которых эти функции удовлетворяют системе уравнений Эйлера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               </a:t>
            </a:r>
            <a:r>
              <a:rPr b="0" i="1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1, …,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        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(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20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где 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    -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функция Лагранжа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При использовании необходимого условия 7 для решения изопериметрической задачи функции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i="1" lang="ru-RU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k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1, ...,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и множители Лагранжа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     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,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=1, …, m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, находятся из системы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+ m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уравнений (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19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) и (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20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8001000" y="1447920"/>
                <a:ext cx="89064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3276720" y="2819520"/>
                <a:ext cx="173016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sub>
                        </m:sSub>
                      </m:e>
                    </m:bar>
                    <m:r>
                      <m:t xml:space="preserve">−</m:t>
                    </m:r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den>
                    </m:f>
                    <m:bar>
                      <m:barPr>
                        <m:pos m:val="top"/>
                      </m:barPr>
                      <m:e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sSubSup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  <m:sup>
                                <m:r>
                                  <m:t xml:space="preserve">'</m:t>
                                </m:r>
                              </m:sup>
                            </m:sSubSup>
                          </m:sub>
                        </m:sSub>
                      </m:e>
                    </m:ba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838080" y="3733920"/>
                <a:ext cx="222480" cy="3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L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1600200" y="5105520"/>
                <a:ext cx="25704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7" dur="indefinite" restart="never" nodeType="tmRoot">
          <p:childTnLst>
            <p:seq>
              <p:cTn id="1298" dur="indefinite" nodeType="mainSeq">
                <p:childTnLst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3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4" fill="hold">
                      <p:stCondLst>
                        <p:cond delay="indefinite"/>
                      </p:stCondLst>
                      <p:childTnLst>
                        <p:par>
                          <p:cTn id="1305" fill="hold">
                            <p:stCondLst>
                              <p:cond delay="0"/>
                            </p:stCondLst>
                            <p:childTnLst>
                              <p:par>
                                <p:cTn id="13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8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2" fill="hold">
                            <p:stCondLst>
                              <p:cond delay="500"/>
                            </p:stCondLst>
                            <p:childTnLst>
                              <p:par>
                                <p:cTn id="13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5" dur="5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9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2" dur="500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3" fill="hold">
                            <p:stCondLst>
                              <p:cond delay="1500"/>
                            </p:stCondLst>
                            <p:childTnLst>
                              <p:par>
                                <p:cTn id="13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6" dur="500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0" fill="hold">
                      <p:stCondLst>
                        <p:cond delay="indefinite"/>
                      </p:stCondLst>
                      <p:childTnLst>
                        <p:par>
                          <p:cTn id="1331" fill="hold">
                            <p:stCondLst>
                              <p:cond delay="0"/>
                            </p:stCondLst>
                            <p:childTnLst>
                              <p:par>
                                <p:cTn id="13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4" dur="500"/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52280" y="228600"/>
            <a:ext cx="8839440" cy="58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Всякое решение уравнения Эйлера называется </a:t>
            </a:r>
            <a:r>
              <a:rPr b="0" i="1" lang="ru-RU" sz="2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экстремалью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функционала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Экстремаль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придает этому функционалу стационарное значение в следующем смысле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если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–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любое такое решение, взятое на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некотором интервале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 x ≤b</a:t>
            </a:r>
            <a:r>
              <a:rPr b="0" lang="ru-RU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i="1" lang="ru-RU" sz="2200" spc="-1" strike="noStrike" baseline="-30000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(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 a</a:t>
            </a:r>
            <a:r>
              <a:rPr b="0" lang="ru-RU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ru-RU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b</a:t>
            </a:r>
            <a:r>
              <a:rPr b="0" lang="ru-RU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ru-RU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b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)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,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и если произвольно проварьировать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на этом интервале, не меняя значения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и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, то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Экстремалями называются также графики решений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 -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интегральные линии уравнения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Совокупность экстремалей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образует </a:t>
            </a:r>
            <a:r>
              <a:rPr b="0" lang="ru-RU" sz="2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двухпараметрическое семейство функций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3200400" y="3276720"/>
                <a:ext cx="2514600" cy="78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  <m:sup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,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3200400" y="533520"/>
                <a:ext cx="2286000" cy="86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y</m:t>
                        </m:r>
                      </m:e>
                    </m:d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r>
                              <m:t xml:space="preserve">y</m:t>
                            </m:r>
                            <m:r>
                              <m:t xml:space="preserve">,</m:t>
                            </m:r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</m:e>
                        </m:d>
                      </m:e>
                    </m:nary>
                    <m:r>
                      <m:rPr>
                        <m:lit/>
                        <m:nor/>
                      </m:rPr>
                      <m:t xml:space="preserve">dx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6" dur="8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7" dur="8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8" dur="8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2440"/>
                            </p:stCondLst>
                            <p:childTnLst>
                              <p:par>
                                <p:cTn id="18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7" dur="8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8" dur="8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9" dur="8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840"/>
                            </p:stCondLst>
                            <p:childTnLst>
                              <p:par>
                                <p:cTn id="19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3" dur="8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4" dur="8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5" dur="8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8920"/>
                            </p:stCondLst>
                            <p:childTnLst>
                              <p:par>
                                <p:cTn id="19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4" dur="80"/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5" dur="80"/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6" dur="80"/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1" dur="80"/>
                                        <p:tgtEl>
                                          <p:spTgt spid="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2" dur="80"/>
                                        <p:tgtEl>
                                          <p:spTgt spid="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3" dur="80"/>
                                        <p:tgtEl>
                                          <p:spTgt spid="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Уравнение Эйлера в квадратурах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52280" y="457200"/>
            <a:ext cx="8839440" cy="57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Рассмотрим уравнение Эйлера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buClr>
                <a:srgbClr val="8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Функция </a:t>
            </a:r>
            <a:r>
              <a:rPr b="0" i="1" lang="ru-RU" sz="2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F </a:t>
            </a:r>
            <a:r>
              <a:rPr b="0" lang="ru-RU" sz="2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не содержит </a:t>
            </a:r>
            <a:r>
              <a:rPr b="0" lang="ru-RU" sz="22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0" i="1" lang="ru-RU" sz="2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у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buClr>
                <a:srgbClr val="8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   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Уравнение Эйлера принимает вид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   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и имеет очевидный первый интеграл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2) </a:t>
            </a:r>
            <a:r>
              <a:rPr b="0" lang="ru-RU" sz="2200" spc="-1" strike="noStrike">
                <a:solidFill>
                  <a:srgbClr val="800000"/>
                </a:solidFill>
                <a:latin typeface="Times New Roman"/>
              </a:rPr>
              <a:t>Функция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F не содержит </a:t>
            </a:r>
            <a:r>
              <a:rPr b="0" i="1" lang="ru-RU" sz="2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х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    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то имеется интеграл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3505320" y="990720"/>
                <a:ext cx="152388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y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−</m:t>
                    </m:r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den>
                    </m:f>
                    <m:sSubSup>
                      <m:e>
                        <m:r>
                          <m:t xml:space="preserve">F</m:t>
                        </m:r>
                      </m:e>
                      <m:sub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3581280" y="2209680"/>
                <a:ext cx="1447920" cy="35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3581280" y="2971800"/>
                <a:ext cx="114300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den>
                    </m:f>
                    <m:sSub>
                      <m:e>
                        <m:r>
                          <m:t xml:space="preserve">F</m:t>
                        </m:r>
                      </m:e>
                      <m:sub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3429000" y="4038480"/>
                <a:ext cx="152388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3352680" y="4800600"/>
                <a:ext cx="144792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,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3505320" y="5562720"/>
                <a:ext cx="147780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−</m:t>
                    </m:r>
                    <m:r>
                      <m:t xml:space="preserve">y</m:t>
                    </m:r>
                    <m:r>
                      <m:t xml:space="preserve">'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y</m:t>
                        </m:r>
                        <m:r>
                          <m:t xml:space="preserve">'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6" dur="8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7" dur="8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8" dur="8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1040"/>
                            </p:stCondLst>
                            <p:childTnLst>
                              <p:par>
                                <p:cTn id="23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7" dur="8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8" dur="8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9" dur="8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800"/>
                            </p:stCondLst>
                            <p:childTnLst>
                              <p:par>
                                <p:cTn id="2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8" dur="80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9" dur="80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0" dur="80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120"/>
                            </p:stCondLst>
                            <p:childTnLst>
                              <p:par>
                                <p:cTn id="2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9" dur="80"/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0" dur="80"/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1" dur="80"/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1200"/>
                            </p:stCondLst>
                            <p:childTnLst>
                              <p:par>
                                <p:cTn id="26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0" dur="80"/>
                                        <p:tgtEl>
                                          <p:spTgt spid="6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1" dur="80"/>
                                        <p:tgtEl>
                                          <p:spTgt spid="6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2" dur="80"/>
                                        <p:tgtEl>
                                          <p:spTgt spid="6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880"/>
                            </p:stCondLst>
                            <p:childTnLst>
                              <p:par>
                                <p:cTn id="27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1" dur="80"/>
                                        <p:tgtEl>
                                          <p:spTgt spid="6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2" dur="80"/>
                                        <p:tgtEl>
                                          <p:spTgt spid="6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3" dur="80"/>
                                        <p:tgtEl>
                                          <p:spTgt spid="6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720"/>
                            </p:stCondLst>
                            <p:childTnLst>
                              <p:par>
                                <p:cTn id="28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52280" y="152280"/>
            <a:ext cx="8839440" cy="63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3) </a:t>
            </a:r>
            <a:r>
              <a:rPr b="0" lang="ru-RU" sz="2200" spc="-1" strike="noStrike">
                <a:solidFill>
                  <a:srgbClr val="800000"/>
                </a:solidFill>
                <a:latin typeface="Times New Roman"/>
              </a:rPr>
              <a:t>Функция </a:t>
            </a:r>
            <a:r>
              <a:rPr b="0" i="1" lang="ru-RU" sz="2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F</a:t>
            </a:r>
            <a:r>
              <a:rPr b="0" lang="ru-RU" sz="2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не содержит </a:t>
            </a:r>
            <a:r>
              <a:rPr b="0" i="1" lang="ru-RU" sz="2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y‘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=F(x, y)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66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   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У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равнение Эйлера принимает вид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     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Р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ешение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полученного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конечно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го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уравнени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я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не содержит произвольных постоянных и, следовательно, удовлетворяет граничным условиям только в исключительных случаях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4) </a:t>
            </a:r>
            <a:r>
              <a:rPr b="0" lang="ru-RU" sz="2200" spc="-1" strike="noStrike">
                <a:solidFill>
                  <a:srgbClr val="800000"/>
                </a:solidFill>
                <a:latin typeface="Times New Roman"/>
              </a:rPr>
              <a:t>Функция </a:t>
            </a:r>
            <a:r>
              <a:rPr b="0" lang="ru-RU" sz="2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F не содержит </a:t>
            </a:r>
            <a:r>
              <a:rPr b="0" i="1" lang="ru-RU" sz="2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х </a:t>
            </a:r>
            <a:r>
              <a:rPr b="0" lang="ru-RU" sz="2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и</a:t>
            </a:r>
            <a:r>
              <a:rPr b="0" i="1" lang="ru-RU" sz="2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у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(x, y, y')= F(y'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6600"/>
                </a:solidFill>
                <a:latin typeface="Times New Roman"/>
              </a:rPr>
              <a:t>   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В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уравнении Эйлера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    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У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равнение Эйлера принимает вид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Его общее решение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 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=С</a:t>
            </a:r>
            <a:r>
              <a:rPr b="0" i="1" lang="ru-RU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+С</a:t>
            </a:r>
            <a:r>
              <a:rPr b="0" i="1" lang="ru-RU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ru-RU" sz="2200" spc="-1" strike="noStrike" baseline="-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–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семейство экстремалей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3780000" y="1413000"/>
                <a:ext cx="152388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2666880" y="4191120"/>
                <a:ext cx="106704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F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y</m:t>
                        </m:r>
                        <m:r>
                          <m:t xml:space="preserve">∂</m:t>
                        </m:r>
                        <m:r>
                          <m:t xml:space="preserve">y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4038480" y="4191120"/>
                <a:ext cx="1143000" cy="71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F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y</m:t>
                        </m:r>
                        <m:r>
                          <m:t xml:space="preserve">'</m:t>
                        </m:r>
                        <m:r>
                          <m:t xml:space="preserve">∂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5334120" y="4191120"/>
                <a:ext cx="838080" cy="69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F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y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3962520" y="5562720"/>
                <a:ext cx="1066680" cy="3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sub>
                    </m:sSub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4" dur="8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5" dur="8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6" dur="8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920"/>
                            </p:stCondLst>
                            <p:childTnLst>
                              <p:par>
                                <p:cTn id="29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0" dur="8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1" dur="8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2" dur="8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7" dur="8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8" dur="8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9" dur="8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1120"/>
                            </p:stCondLst>
                            <p:childTnLst>
                              <p:par>
                                <p:cTn id="31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8" dur="80"/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9" dur="80"/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0" dur="80"/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5" dur="80"/>
                                        <p:tgtEl>
                                          <p:spTgt spid="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6" dur="80"/>
                                        <p:tgtEl>
                                          <p:spTgt spid="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7" dur="80"/>
                                        <p:tgtEl>
                                          <p:spTgt spid="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960"/>
                            </p:stCondLst>
                            <p:childTnLst>
                              <p:par>
                                <p:cTn id="32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1" dur="80"/>
                                        <p:tgtEl>
                                          <p:spTgt spid="6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2" dur="80"/>
                                        <p:tgtEl>
                                          <p:spTgt spid="6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3" dur="80"/>
                                        <p:tgtEl>
                                          <p:spTgt spid="6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8" dur="80"/>
                                        <p:tgtEl>
                                          <p:spTgt spid="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0" dur="80"/>
                                        <p:tgtEl>
                                          <p:spTgt spid="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680"/>
                            </p:stCondLst>
                            <p:childTnLst>
                              <p:par>
                                <p:cTn id="34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1180"/>
                            </p:stCondLst>
                            <p:childTnLst>
                              <p:par>
                                <p:cTn id="34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1680"/>
                            </p:stCondLst>
                            <p:childTnLst>
                              <p:par>
                                <p:cTn id="35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6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6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6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1120"/>
                            </p:stCondLst>
                            <p:childTnLst>
                              <p:par>
                                <p:cTn id="3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8" dur="80"/>
                                        <p:tgtEl>
                                          <p:spTgt spid="67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9" dur="80"/>
                                        <p:tgtEl>
                                          <p:spTgt spid="67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0" dur="80"/>
                                        <p:tgtEl>
                                          <p:spTgt spid="67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228600"/>
            <a:ext cx="9144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Обобщения простейшей задачи вариационного</a:t>
            </a:r>
            <a:r>
              <a:rPr b="1" lang="en-US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r>
              <a:rPr b="1" lang="ru-RU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исчисления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28600" y="838080"/>
            <a:ext cx="8686800" cy="499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Задача на экстремум функционала,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зависящего от производных высших порядков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Рассмотрим функционал вида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(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5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где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функция 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имеет непрерывные частные производные вплоть до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1)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-го порядка по всем аргументам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, а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Граничные условия в этой задаче имеют вид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                                                 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, 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               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, …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(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6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                                                 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,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               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, …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2743200" y="2362320"/>
                <a:ext cx="380520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  <m:r>
                      <m:t xml:space="preserve">[</m:t>
                    </m:r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]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,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1447920" y="3429000"/>
                <a:ext cx="226224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,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,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6415200" y="3762360"/>
                <a:ext cx="164448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∈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[</m:t>
                    </m:r>
                    <m:r>
                      <m:t xml:space="preserve">a</m:t>
                    </m:r>
                    <m:r>
                      <m:t xml:space="preserve">;</m:t>
                    </m:r>
                    <m:r>
                      <m:t xml:space="preserve">b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2819520" y="4800600"/>
                <a:ext cx="106200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4114800" y="4800600"/>
                <a:ext cx="113184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sSubSup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5715000" y="4800600"/>
                <a:ext cx="1405080" cy="37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sSubSup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2819520" y="5410080"/>
                <a:ext cx="102852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4114800" y="5410080"/>
                <a:ext cx="113040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sSubSup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791320" y="5410080"/>
            <a:ext cx="13874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0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3" dur="8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4" dur="8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5" dur="8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1200"/>
                            </p:stCondLst>
                            <p:childTnLst>
                              <p:par>
                                <p:cTn id="38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9" dur="8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0" dur="8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1" dur="8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6" dur="500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50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3" dur="500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1000"/>
                            </p:stCondLst>
                            <p:childTnLst>
                              <p:par>
                                <p:cTn id="4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7" dur="500"/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3" dur="500"/>
                                        <p:tgtEl>
                                          <p:spTgt spid="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500"/>
                            </p:stCondLst>
                            <p:childTnLst>
                              <p:par>
                                <p:cTn id="42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6" dur="500"/>
                                        <p:tgtEl>
                                          <p:spTgt spid="7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1000"/>
                            </p:stCondLst>
                            <p:childTnLst>
                              <p:par>
                                <p:cTn id="4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0" dur="500"/>
                                        <p:tgtEl>
                                          <p:spTgt spid="7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1500"/>
                            </p:stCondLst>
                            <p:childTnLst>
                              <p:par>
                                <p:cTn id="44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3" dur="500"/>
                                        <p:tgtEl>
                                          <p:spTgt spid="7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8600" y="609480"/>
            <a:ext cx="8686800" cy="391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Необходимое условие 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Для того чтобы функционал (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5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) достигал на функции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локального экстремума, необходимо, чтобы эта функция удовлетворяла уравнению Эйлера-Пуассона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(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7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Р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ешения уравнения (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7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), удовлетворяющие граничным условиям (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6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), являются кривыми возможного абсолютного экстремума этого функционала на множестве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7010280" y="1295280"/>
                <a:ext cx="162900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∈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[</m:t>
                    </m:r>
                    <m:r>
                      <m:t xml:space="preserve">a</m:t>
                    </m:r>
                    <m:r>
                      <m:t xml:space="preserve">;</m:t>
                    </m:r>
                    <m:r>
                      <m:t xml:space="preserve">b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2209680" y="2514600"/>
                <a:ext cx="481644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−</m:t>
                    </m:r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den>
                    </m:f>
                    <m:sSub>
                      <m:e>
                        <m:r>
                          <m:t xml:space="preserve">F</m:t>
                        </m:r>
                      </m:e>
                      <m:sub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sub>
                    </m:sSub>
                    <m:r>
                      <m:t xml:space="preserve">+</m:t>
                    </m:r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sSub>
                      <m:e>
                        <m:r>
                          <m:t xml:space="preserve">F</m:t>
                        </m:r>
                      </m:e>
                      <m:sub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sub>
                    </m:sSub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1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den>
                    </m:f>
                    <m:sSub>
                      <m:e>
                        <m:r>
                          <m:t xml:space="preserve">F</m:t>
                        </m:r>
                      </m:e>
                      <m:sub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)</m:t>
                            </m:r>
                          </m:sup>
                        </m:sSup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533520" y="4800600"/>
                <a:ext cx="817560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[</m:t>
                        </m:r>
                        <m:r>
                          <m:t xml:space="preserve">a</m:t>
                        </m:r>
                        <m:r>
                          <m:t xml:space="preserve">;</m:t>
                        </m:r>
                        <m:r>
                          <m:t xml:space="preserve">b</m:t>
                        </m:r>
                        <m:r>
                          <m:t xml:space="preserve">]</m:t>
                        </m:r>
                        <m:r>
                          <m:t xml:space="preserve">|</m:t>
                        </m:r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0" dur="8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1" dur="8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2" dur="8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7" dur="5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500"/>
                            </p:stCondLst>
                            <p:childTnLst>
                              <p:par>
                                <p:cTn id="47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4" dur="8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5" dur="8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6" dur="8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fill="hold">
                            <p:stCondLst>
                              <p:cond delay="3900"/>
                            </p:stCondLst>
                            <p:childTnLst>
                              <p:par>
                                <p:cTn id="4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4400"/>
                            </p:stCondLst>
                            <p:childTnLst>
                              <p:par>
                                <p:cTn id="48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4" dur="80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5" dur="80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6" dur="80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1" dur="80"/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2" dur="80"/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3" dur="80"/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5200"/>
                            </p:stCondLst>
                            <p:childTnLst>
                              <p:par>
                                <p:cTn id="49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8600" y="304920"/>
            <a:ext cx="8686800" cy="63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Рассмотрим функционал вида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(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8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с граничными условиями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baseline="-30000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 baseline="-30000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 baseline="-30000">
                <a:solidFill>
                  <a:srgbClr val="006600"/>
                </a:solidFill>
                <a:latin typeface="Times New Roman"/>
                <a:ea typeface="Times New Roman"/>
              </a:rPr>
              <a:t>                   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       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,  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               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,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                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baseline="-30000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Вариация функционала (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8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) имеет вид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У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равнени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е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Эйлера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имеет вид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У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равнение Эйлера для такого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ф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ункционал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а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с производными порядка до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2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включительно имеет порядок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3200400" y="838080"/>
                <a:ext cx="270828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y</m:t>
                        </m:r>
                      </m:e>
                    </m:d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sSup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r>
                              <m:t xml:space="preserve">y</m:t>
                            </m:r>
                            <m:r>
                              <m:t xml:space="preserve">,</m:t>
                            </m:r>
                            <m:r>
                              <m:t xml:space="preserve">y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', {</m:t>
                            </m:r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e>
                    </m:nary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d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0" y="2666880"/>
                <a:ext cx="114480" cy="2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1828800" y="2362320"/>
                <a:ext cx="107964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3132000" y="2349360"/>
                <a:ext cx="1148040" cy="37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sSubSup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4572000" y="2362320"/>
                <a:ext cx="106200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5791320" y="2362320"/>
                <a:ext cx="113184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sSubSup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b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2971800" y="3429000"/>
                <a:ext cx="329076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I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δy</m:t>
                        </m:r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F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δy</m:t>
                        </m:r>
                        <m:r>
                          <m:t xml:space="preserve">'</m:t>
                        </m:r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F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  <m:r>
                                  <m:t xml:space="preserve">'</m:t>
                                </m:r>
                              </m:sup>
                            </m:sSup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δ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3352680" y="4724280"/>
                <a:ext cx="258768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y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−</m:t>
                    </m:r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den>
                    </m:f>
                    <m:sSubSup>
                      <m:e>
                        <m:r>
                          <m:t xml:space="preserve">F</m:t>
                        </m:r>
                      </m:e>
                      <m:sub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+</m:t>
                    </m:r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sSubSup>
                      <m:e>
                        <m:r>
                          <m:t xml:space="preserve">F</m:t>
                        </m:r>
                      </m:e>
                      <m:sub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4" dur="8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5" dur="8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6" dur="8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1000"/>
                            </p:stCondLst>
                            <p:childTnLst>
                              <p:par>
                                <p:cTn id="50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1500"/>
                            </p:stCondLst>
                            <p:childTnLst>
                              <p:par>
                                <p:cTn id="51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4" dur="8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5" dur="8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6" dur="8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1" dur="8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2" dur="8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3" dur="8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fill="hold">
                            <p:stCondLst>
                              <p:cond delay="840"/>
                            </p:stCondLst>
                            <p:childTnLst>
                              <p:par>
                                <p:cTn id="52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9" dur="500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4" dur="80"/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5" dur="80"/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6" dur="80"/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1240"/>
                            </p:stCondLst>
                            <p:childTnLst>
                              <p:par>
                                <p:cTn id="54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5" dur="80"/>
                                        <p:tgtEl>
                                          <p:spTgt spid="8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6" dur="80"/>
                                        <p:tgtEl>
                                          <p:spTgt spid="8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7" dur="80"/>
                                        <p:tgtEl>
                                          <p:spTgt spid="8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fill="hold">
                            <p:stCondLst>
                              <p:cond delay="960"/>
                            </p:stCondLst>
                            <p:childTnLst>
                              <p:par>
                                <p:cTn id="55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6" dur="80"/>
                                        <p:tgtEl>
                                          <p:spTgt spid="8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7" dur="80"/>
                                        <p:tgtEl>
                                          <p:spTgt spid="8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8" dur="80"/>
                                        <p:tgtEl>
                                          <p:spTgt spid="8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228600" y="685800"/>
            <a:ext cx="8686800" cy="552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Пусть функционал имеет вид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        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              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        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(9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где функция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ru-RU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...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имеет непрерывные частные производные до второго порядка включительно по всем своим аргументам и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                     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1, …,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Граничные условия в этой задаче имеют вид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Необходимое условие 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Для того чтобы набор функций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ru-RU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.,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i="1" lang="ru-RU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ru-RU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ru-RU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доставлял слабый экстремум функционалу (9), необходимо, чтобы эти функции удовлетворяли </a:t>
            </a:r>
            <a:r>
              <a:rPr b="0" i="1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системе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дифференциальных уравнений Эйлера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                                                              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, 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k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=1, …, </a:t>
            </a:r>
            <a:r>
              <a:rPr b="0" i="1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n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       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371600" y="1104840"/>
                <a:ext cx="634212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  <m:r>
                      <m:t xml:space="preserve">[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]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304920" y="2438280"/>
                <a:ext cx="173016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∈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[</m:t>
                    </m:r>
                    <m:r>
                      <m:t xml:space="preserve">a</m:t>
                    </m:r>
                    <m:r>
                      <m:t xml:space="preserve">;</m:t>
                    </m:r>
                    <m:r>
                      <m:t xml:space="preserve">b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2752560" y="3638520"/>
                <a:ext cx="380556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sSubSup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,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sSubSup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,</m:t>
                    </m:r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t xml:space="preserve">n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1" name=""/>
          <p:cNvSpPr/>
          <p:nvPr/>
        </p:nvSpPr>
        <p:spPr>
          <a:xfrm>
            <a:off x="0" y="152280"/>
            <a:ext cx="9144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Функционалы от нескольких функций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3124080" y="5638680"/>
                <a:ext cx="1712880" cy="68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sub>
                    </m:sSub>
                    <m:r>
                      <m:t xml:space="preserve">−</m:t>
                    </m:r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den>
                    </m:f>
                    <m:sSub>
                      <m:e>
                        <m:r>
                          <m:t xml:space="preserve">F</m:t>
                        </m:r>
                      </m:e>
                      <m:sub>
                        <m:sSubSup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fill="hold">
                      <p:stCondLst>
                        <p:cond delay="0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1" dur="8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2" dur="8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3" dur="8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1000"/>
                            </p:stCondLst>
                            <p:childTnLst>
                              <p:par>
                                <p:cTn id="58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1500"/>
                            </p:stCondLst>
                            <p:childTnLst>
                              <p:par>
                                <p:cTn id="58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1" dur="8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2" dur="8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3" dur="8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8" dur="8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9" dur="8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0" dur="8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fill="hold">
                            <p:stCondLst>
                              <p:cond delay="4040"/>
                            </p:stCondLst>
                            <p:childTnLst>
                              <p:par>
                                <p:cTn id="60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7" dur="500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2" dur="80"/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3" dur="80"/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4" dur="80"/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fill="hold">
                            <p:stCondLst>
                              <p:cond delay="1440"/>
                            </p:stCondLst>
                            <p:childTnLst>
                              <p:par>
                                <p:cTn id="61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3" dur="80"/>
                                        <p:tgtEl>
                                          <p:spTgt spid="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4" dur="80"/>
                                        <p:tgtEl>
                                          <p:spTgt spid="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5" dur="80"/>
                                        <p:tgtEl>
                                          <p:spTgt spid="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0" dur="80"/>
                                        <p:tgtEl>
                                          <p:spTgt spid="9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1" dur="80"/>
                                        <p:tgtEl>
                                          <p:spTgt spid="9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2" dur="80"/>
                                        <p:tgtEl>
                                          <p:spTgt spid="9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fill="hold">
                            <p:stCondLst>
                              <p:cond delay="6560"/>
                            </p:stCondLst>
                            <p:childTnLst>
                              <p:par>
                                <p:cTn id="63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9" dur="500"/>
                                        <p:tgtEl>
                                          <p:spTgt spid="9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1T10:06:09Z</dcterms:created>
  <dc:creator>Zver</dc:creator>
  <dc:description/>
  <dc:language>en-US</dc:language>
  <cp:lastModifiedBy>vadim</cp:lastModifiedBy>
  <dcterms:modified xsi:type="dcterms:W3CDTF">2008-03-04T18:28:43Z</dcterms:modified>
  <cp:revision>127</cp:revision>
  <dc:subject/>
  <dc:title>Презентация PowerPoint</dc:title>
</cp:coreProperties>
</file>